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4C2D79-4031-425C-9C45-960D9CCE19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067A9-C9EC-4CE1-87C2-9377B0111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06C69C-F4C9-48D6-925C-6057AC20AB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8E933B-6664-497A-B0B9-05D1129394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CD9DA-0EAF-4A08-8348-46F80273A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B317C-9A1E-45F0-B4C8-6AD112137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BA899-4C76-4371-B964-0170C4E9F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994FC-C924-4A2C-B7E8-A74C17946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6E8EF-22CD-48BC-8EC0-83C679BB2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3739B-C2D3-420A-92A3-D8D454C21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0AAB8-F897-48A2-A0CD-A075CC34F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01FD9-EF3D-42F3-8609-A8A1C5DEE4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8629F-3262-43F6-959A-D8D0FF1E7C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file:///Das%20GKV-Leistungsrecht.ppt"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905120" y="2743200"/>
            <a:ext cx="5486400" cy="101592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kur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vlis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09480" y="1523880"/>
            <a:ext cx="815364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Der Gesetzgeber hatte i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 33 a SGB V</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bestimmt, dass das BMGS ermächtigt wird, durch Rechtsver-ordnung eine Liste der verordnungsfähigen Arzneimittel zu erlassen.</a:t>
            </a:r>
            <a:endParaRPr b="0" lang="en-US" sz="2400" spc="-1" strike="noStrike">
              <a:solidFill>
                <a:srgbClr val="000000"/>
              </a:solidFill>
              <a:latin typeface="Times New Roman"/>
            </a:endParaRPr>
          </a:p>
        </p:txBody>
      </p:sp>
      <p:sp>
        <p:nvSpPr>
          <p:cNvPr id="43" name=""/>
          <p:cNvSpPr/>
          <p:nvPr/>
        </p:nvSpPr>
        <p:spPr>
          <a:xfrm>
            <a:off x="533520" y="4267080"/>
            <a:ext cx="8381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Die Regelung wurde eingeführt durch das GKV-Gesundheitsreformgesetz v. 22.12.1999 mit Wirkung vom 01.01.2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457200" y="685800"/>
            <a:ext cx="8229600" cy="522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33a SGB V</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rordnungsfähige Arzneimitte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Das Bundesministerium für Gesundheit wird ermächtigt, durch Rechtsverordnung mit Zustimmung des Bundesrates auf der Grundlage der Vorschlagsliste nach Absatz 6 eine Liste verordnungsfähiger Arzneimittel, aufgeführt als Wirkstoffe und Wirkstoffkombinationen jeweils unter Berücksichtigung der Indikationen und Darreichungsformen in der vertragsärztlichen Versorgung, zu erlassen. Auf Grundlage der Rechtsverordnung gibt das Bundesministerium für Gesundheit unverzüglich eine Fertigarzneimittelliste bekannt, die in dem datenbankgestützten Informationssystem des Deutschen Instituts für Medizinische Dokumentation und Information zur Verfügung gestellt wir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57200" y="304920"/>
            <a:ext cx="8305920" cy="5977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2) Zur Vorbereitung der Rechtsverordnung nach Absatz 1 wird beim Bundesministerium für Gesundheit ein Institut für die Arzneimittelverordnung in der gesetzlichen Krankenversicherung errichtet, das aus einer Kommission und einer Geschäftsstelle besteht; der Leiter der Geschäftsstelle ist der Geschäftsführer des Instituts. Mitglieder der Kommission sind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1.</a:t>
            </a:r>
            <a:r>
              <a:rPr b="0" lang="de-DE" sz="1600" spc="-1" strike="noStrike">
                <a:solidFill>
                  <a:srgbClr val="969696"/>
                </a:solidFill>
                <a:latin typeface="Times New Roman"/>
              </a:rPr>
              <a:t> </a:t>
            </a:r>
            <a:r>
              <a:rPr b="0" lang="de-DE" sz="1600" spc="-1" strike="noStrike">
                <a:solidFill>
                  <a:srgbClr val="000000"/>
                </a:solidFill>
                <a:latin typeface="Times New Roman"/>
              </a:rPr>
              <a:t>drei medizinische Sachverständige, davon zwei aus der ärztlichen Praxis, darunter ein Hausarzt nach § 73 Abs. 1a Satz 1 , und einer aus der klinischen Medizi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2.</a:t>
            </a:r>
            <a:r>
              <a:rPr b="0" lang="de-DE" sz="1600" spc="-1" strike="noStrike">
                <a:solidFill>
                  <a:srgbClr val="969696"/>
                </a:solidFill>
                <a:latin typeface="Times New Roman"/>
              </a:rPr>
              <a:t> </a:t>
            </a:r>
            <a:r>
              <a:rPr b="0" lang="de-DE" sz="1600" spc="-1" strike="noStrike">
                <a:solidFill>
                  <a:srgbClr val="000000"/>
                </a:solidFill>
                <a:latin typeface="Times New Roman"/>
              </a:rPr>
              <a:t>zwei Sachverständige der Pharmakologie und der klinischen Pharmakologi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3.</a:t>
            </a:r>
            <a:r>
              <a:rPr b="0" lang="de-DE" sz="1600" spc="-1" strike="noStrike">
                <a:solidFill>
                  <a:srgbClr val="969696"/>
                </a:solidFill>
                <a:latin typeface="Times New Roman"/>
              </a:rPr>
              <a:t> </a:t>
            </a:r>
            <a:r>
              <a:rPr b="0" lang="de-DE" sz="1600" spc="-1" strike="noStrike">
                <a:solidFill>
                  <a:srgbClr val="000000"/>
                </a:solidFill>
                <a:latin typeface="Times New Roman"/>
              </a:rPr>
              <a:t>ein Sachverständiger der medizinischen Statistik.</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Weitere Mitglieder der Kommission sind</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 </a:t>
            </a:r>
            <a:r>
              <a:rPr b="0" lang="de-DE" sz="1600" spc="-1" strike="noStrike">
                <a:solidFill>
                  <a:srgbClr val="000000"/>
                </a:solidFill>
                <a:latin typeface="Times New Roman"/>
              </a:rPr>
              <a:t>4.</a:t>
            </a:r>
            <a:r>
              <a:rPr b="0" lang="de-DE" sz="1600" spc="-1" strike="noStrike">
                <a:solidFill>
                  <a:srgbClr val="969696"/>
                </a:solidFill>
                <a:latin typeface="Times New Roman"/>
              </a:rPr>
              <a:t> </a:t>
            </a:r>
            <a:r>
              <a:rPr b="0" lang="de-DE" sz="1600" spc="-1" strike="noStrike">
                <a:solidFill>
                  <a:srgbClr val="000000"/>
                </a:solidFill>
                <a:latin typeface="Times New Roman"/>
              </a:rPr>
              <a:t>ein Sachverständiger der Phytotherapi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69696"/>
                </a:solidFill>
                <a:latin typeface="Times New Roman"/>
              </a:rPr>
              <a:t>5. </a:t>
            </a:r>
            <a:r>
              <a:rPr b="0" lang="de-DE" sz="1600" spc="-1" strike="noStrike">
                <a:solidFill>
                  <a:srgbClr val="000000"/>
                </a:solidFill>
                <a:latin typeface="Times New Roman"/>
              </a:rPr>
              <a:t>ein Sachverständiger der Homöopathi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6.</a:t>
            </a:r>
            <a:r>
              <a:rPr b="0" lang="de-DE" sz="1600" spc="-1" strike="noStrike">
                <a:solidFill>
                  <a:srgbClr val="969696"/>
                </a:solidFill>
                <a:latin typeface="Times New Roman"/>
              </a:rPr>
              <a:t> </a:t>
            </a:r>
            <a:r>
              <a:rPr b="0" lang="de-DE" sz="1600" spc="-1" strike="noStrike">
                <a:solidFill>
                  <a:srgbClr val="000000"/>
                </a:solidFill>
                <a:latin typeface="Times New Roman"/>
              </a:rPr>
              <a:t>ein Sachverständiger der anthroposophischen Medizi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mit einem abgeschlossenen Hochschulstudium der Medizin oder Pharmazie. Die Sachverständigen und ein Stellvertreter für jede der in den Sätzen 2 und 3 genannten Gruppen werden vom Bundesministerium für Gesundheit für die Dauer von vier Jahren berufen. Die Amtsdauer von Sachverständigen und Stellvertretern, die während einer Amtsperiode berufen werden, endet mit der jeweiligen Amtsperiode. Die Mitgliedschaft kann den Sachverständigen und Stellvertretern vom Bundesministerium für Gesundheit entzogen werden, wenn sie an den Aufgaben des Instituts nicht oder nicht im vorgesehenen Umfang mitwirken oder begründete Zweifel an ihrer Unparteilichkeit bestehen.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57200" y="609480"/>
            <a:ext cx="8381880" cy="3111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 Das Institut erstellt auf der Grundlage der Kriterien nach Absatz 7 zur Vorbereitung der Rechtsverordnung nach Absatz 1 eine Vorschlagsliste von Arzneimitteln, die in der vertragsärztlichen Versorgung verordnungsfähig sind (Vorschlagsliste). Die Arzneimittel der besonderen Therapierichtungen Phytotherapie, Homöopathie und Anthroposophie werden in einem Anhang aufgelistet. Arzneimittel der besonderen Therapierichtungen können in den Hauptteil der Vorschlagsliste aufgenommen werden, sofern sie den für diesen geltenden Urteilsstandards entsprechen. Die Vorschlagsliste einschließlich Anhang ist nach Anwendungsgebieten und Stoffgruppen zu ordnen. Sie kann Anwendungsgebiete von Arzneimitteln von der Verordnungsfähigkeit ausnehmen oder die Verordnungsfähigkeit von Arzneimitteln an bestimmte medizinische Bedingungen knüpfe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04920" y="533520"/>
            <a:ext cx="8534160" cy="4208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7) In die Vorschlagsliste aufzunehmen sind Arzneimittel, die für eine zweckmäßige, ausreichende und notwendige Behandlung, Prävention oder Diagnostik von Krankheiten oder erheblichen Gesundheitsstörungen geeignet sind; Voraussetzung für diese Eignung ist ein mehr als geringfügiger therapeutischer Nutzen, gemessen am Ausmaß des erzielbaren therapeutischen Effekts. Den indikationsbezogenen Bewertungen sind jeweils einheitliche Urteilsstandards zu Grunde zu legen. In die Bewertungen einzubeziehen sind Qualität und Aussagekraft der Belege, die therapeutische Relevanz der wissenschaftlichen Erkenntnisse und die Erfolgswahrscheinlichkeit der therapeutischen, präventiven oder diagnostischen Maßnahme. Die Sätze 1 bis 3 gelten auch, soweit nach § 34 Abs. 1 eine Verordnungsfähigkeit besteht. Nicht aufzunehmen sind Arzneimittel, die für geringfügige Gesundheitsstörungen bestimmt sind, die für das Therapieziel oder zur Minderung von Risiken nicht erforderliche Bestandteile enthalten oder deren Wirkung wegen der Vielzahl der enthaltenen Wirkstoffe nicht mit ausreichender Sicherheit beurteilbar ist. Die Kriterien für die Aufnahme von Arzneimitteln der besonderen Therapierichtungen haben den Besonderheiten der jeweiligen Therapierichtung Rechnung zu trage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1066680"/>
            <a:ext cx="807732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 Klagen gegen die Vorschlagsliste sind unzulässig. Für Klagen gegen die Liste verordnungsfähiger Arzneimittel nach Absatz 1 gelten die Vorschriften über die Anfechtungsklage entsprechend. Die Klagen haben keine aufschiebende Wirkung. Ein Vorverfahren findet nicht statt. Gesonderte Klagen gegen die Gliederungen nach Anwendungsgebieten oder Stoffgruppen oder gegen sonstige Teile der Zusammenstellungen sind unzulässig. Für Klagen auf Aufnahme in die Liste verordnungsfähiger Arzneimittel nach Absatz 1 oder auf Bekanntmachung als vorläufig verordnungsfähiges Arzneimittel nach Absatz 10 gelten die Vorschriften über die Leistungsklage entsprechen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371600" y="3048120"/>
            <a:ext cx="6400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33 a wurde durch das GMG gestrichen!!</a:t>
            </a:r>
            <a:endParaRPr b="0" lang="en-US" sz="2400" spc="-1" strike="noStrike">
              <a:solidFill>
                <a:srgbClr val="000000"/>
              </a:solidFill>
              <a:latin typeface="Times New Roman"/>
            </a:endParaRPr>
          </a:p>
        </p:txBody>
      </p:sp>
      <p:sp>
        <p:nvSpPr>
          <p:cNvPr id="50" name="">
            <a:hlinkClick r:id="rId1"/>
          </p:cNvPr>
          <p:cNvSpPr/>
          <p:nvPr/>
        </p:nvSpPr>
        <p:spPr>
          <a:xfrm>
            <a:off x="7086600" y="57913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10800"/>
                </a:moveTo>
                <a:lnTo>
                  <a:pt x="20510" y="3794"/>
                </a:lnTo>
                <a:lnTo>
                  <a:pt x="2051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5T14:54:22Z</dcterms:created>
  <dc:creator>h439090</dc:creator>
  <dc:description/>
  <dc:language>en-US</dc:language>
  <cp:lastModifiedBy>h439090</cp:lastModifiedBy>
  <dcterms:modified xsi:type="dcterms:W3CDTF">2008-04-07T11:51:22Z</dcterms:modified>
  <cp:revision>3</cp:revision>
  <dc:subject/>
  <dc:title>PowerPoint-Präsentation</dc:title>
</cp:coreProperties>
</file>