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AACF5-6F54-4A89-B7B2-8AF1E1CEF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7632E-F3BF-44BC-82F7-BC5B17169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ED047-9E0C-43DE-B5BF-F0C036B64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BC3E4-DF99-4EBF-9747-2FA7D5B31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F81EA-0FBC-41F4-9EFC-E9D7097F2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338A8-4729-41E6-9875-764E9D682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1BFCF-912B-4033-B5E5-EB5D8AC31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F702E-FF98-426E-A412-CDEB34E74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18793-F5E6-40B1-84D0-24CB62AB6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34BF1-17AC-497F-80F0-137C9E2AC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667BA-18D9-4279-A46E-A73A703E1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07098-D609-4EE5-A754-3BED1C6FD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B8F1-B176-4DB3-859E-78C3A0E65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Das%20GKV-Leistungsrech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95280" y="2516040"/>
            <a:ext cx="6629400" cy="13816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kur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e Richtlinien des Gemeinsamen Bundesausschusses nach § 135 SGB 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457200"/>
            <a:ext cx="8534160" cy="69703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Shell Dlg"/>
              </a:rPr>
              <a:t>§ 135 SGB V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Shell Dlg"/>
              </a:rPr>
              <a:t>Bewertung von Untersuchungs- und Behandlungsmethode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Shell Dlg"/>
              </a:rPr>
              <a:t>(1)  Neue Untersuchungs- und Behandlungsmethoden dürfen in der vertragsärztlichen und vertragszahnärztlichen Versorgung zu Lasten der Krankenkassen nur erbracht werden, wenn der Gemeinsame Bundesausschuss auf Antrag einer Kassenärztlichen Bundesvereinigung, einer Kassenärztlichen Vereinigung oder eines Spitzenverbandes der Krankenkassen in Richtlinien nach § 92 Abs. 1 Satz 2 Nr. 5</a:t>
            </a:r>
            <a:r>
              <a:rPr b="0" lang="en-US" sz="2000" spc="-1" strike="noStrike">
                <a:solidFill>
                  <a:srgbClr val="0000ff"/>
                </a:solidFill>
                <a:latin typeface="MS Shell Dlg"/>
              </a:rPr>
              <a:t> </a:t>
            </a:r>
            <a:r>
              <a:rPr b="0" lang="en-US" sz="2000" spc="-1" strike="noStrike">
                <a:solidFill>
                  <a:srgbClr val="000000"/>
                </a:solidFill>
                <a:latin typeface="MS Shell Dlg"/>
              </a:rPr>
              <a:t>Empfehlungen abgegeben hat über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Shell Dlg"/>
              </a:rPr>
              <a:t>1.  die Anerkennung des diagnostischen und therapeutischen Nutzens der neuen Methode sowie deren medizinische Notwendigkeit und Wirtschaftlichkeit - auch im Vergleich zu bereits zu Lasten der Krankenkassen erbrachte Methoden - nach dem jeweiligen Stand der wissenschaftlichen Erkenntnisse in der jeweiligen Therapierichtung,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Shell Dlg"/>
              </a:rPr>
              <a:t>2.  die notwendige Qualifikation der Ärzte, die apparativen Anforderungen sowie Anforderungen an Maßnahmen der Qualitätssicherung, um eine sachgerechte Anwendung der neuen Methode zu sichern, und </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Shell Dlg"/>
              </a:rPr>
              <a:t>3.  die erforderlichen Aufzeichnungen über die ärztliche Behandlung</a:t>
            </a:r>
            <a:r>
              <a:rPr b="0" lang="en-US" sz="1800" spc="-1" strike="noStrike">
                <a:solidFill>
                  <a:srgbClr val="000000"/>
                </a:solidFill>
                <a:latin typeface="MS Shell Dlg"/>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1143000"/>
            <a:ext cx="8229600" cy="22284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Shell Dlg"/>
              </a:rPr>
              <a:t>Der Gemeinsame Bundesausschuss überprüft die zu Lasten der Krankenkassen erbrachten vertragsärztlichen und vertragszahnärztlichen Leistungen daraufhin, ob sie den Kriterien nach Satz 1 Nr. 1 entsprechen. 3 Falls die Überprüfung ergibt, dass diese Kriterien nicht erfüllt werden, dürfen die Leistungen nicht mehr als vertragsärztliche oder vertragszahnärztliche Leistungen zu Lasten der Krankenkassen erbracht werden</a:t>
            </a:r>
            <a:r>
              <a:rPr b="0" lang="en-US" sz="1800" spc="-1" strike="noStrike">
                <a:solidFill>
                  <a:srgbClr val="000000"/>
                </a:solidFill>
                <a:latin typeface="MS Shell Dlg"/>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a:hlinkClick r:id="rId1"/>
          </p:cNvPr>
          <p:cNvSpPr/>
          <p:nvPr/>
        </p:nvSpPr>
        <p:spPr>
          <a:xfrm>
            <a:off x="7086600" y="56386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143000" y="76212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er GemBA erlässt</a:t>
            </a:r>
            <a:endParaRPr b="0" lang="en-US" sz="3200" spc="-1" strike="noStrike">
              <a:solidFill>
                <a:srgbClr val="000000"/>
              </a:solidFill>
              <a:latin typeface="Times New Roman"/>
            </a:endParaRPr>
          </a:p>
        </p:txBody>
      </p:sp>
      <p:sp>
        <p:nvSpPr>
          <p:cNvPr id="46" name=""/>
          <p:cNvSpPr/>
          <p:nvPr/>
        </p:nvSpPr>
        <p:spPr>
          <a:xfrm>
            <a:off x="1066680" y="2057400"/>
            <a:ext cx="7162920" cy="15562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Richtlinie zu Untersuchungs- und Behandlungsmethoden der vertragsärztlichen Versorgung</a:t>
            </a:r>
            <a:endParaRPr b="0" lang="en-US" sz="3200" spc="-1" strike="noStrike">
              <a:solidFill>
                <a:srgbClr val="000000"/>
              </a:solidFill>
              <a:latin typeface="Times New Roman"/>
            </a:endParaRPr>
          </a:p>
        </p:txBody>
      </p:sp>
      <p:sp>
        <p:nvSpPr>
          <p:cNvPr id="47" name=""/>
          <p:cNvSpPr/>
          <p:nvPr/>
        </p:nvSpPr>
        <p:spPr>
          <a:xfrm>
            <a:off x="7072200" y="5181480"/>
            <a:ext cx="428760" cy="381240"/>
          </a:xfrm>
          <a:custGeom>
            <a:avLst/>
            <a:gdLst>
              <a:gd name="textAreaLeft" fmla="*/ 24480 w 428760"/>
              <a:gd name="textAreaRight" fmla="*/ 404280 w 428760"/>
              <a:gd name="textAreaTop" fmla="*/ 24480 h 381240"/>
              <a:gd name="textAreaBottom" fmla="*/ 356760 h 381240"/>
            </a:gdLst>
            <a:ahLst/>
            <a:rect l="textAreaLeft" t="textAreaTop" r="textAreaRight" b="textAreaBottom"/>
            <a:pathLst>
              <a:path w="24290" h="21600">
                <a:moveTo>
                  <a:pt x="0" y="0"/>
                </a:moveTo>
                <a:lnTo>
                  <a:pt x="24290" y="0"/>
                </a:lnTo>
                <a:lnTo>
                  <a:pt x="24290" y="21600"/>
                </a:lnTo>
                <a:lnTo>
                  <a:pt x="0" y="21600"/>
                </a:lnTo>
                <a:close/>
              </a:path>
              <a:path fill="lightenLess" w="24290" h="21600">
                <a:moveTo>
                  <a:pt x="0" y="0"/>
                </a:moveTo>
                <a:lnTo>
                  <a:pt x="24290" y="0"/>
                </a:lnTo>
                <a:lnTo>
                  <a:pt x="22890" y="1400"/>
                </a:lnTo>
                <a:lnTo>
                  <a:pt x="1400" y="1400"/>
                </a:lnTo>
                <a:close/>
              </a:path>
              <a:path fill="darken" w="24290" h="21600">
                <a:moveTo>
                  <a:pt x="24290" y="0"/>
                </a:moveTo>
                <a:lnTo>
                  <a:pt x="24290" y="21600"/>
                </a:lnTo>
                <a:lnTo>
                  <a:pt x="22890" y="20200"/>
                </a:lnTo>
                <a:lnTo>
                  <a:pt x="22890" y="1400"/>
                </a:lnTo>
                <a:close/>
              </a:path>
              <a:path fill="darkenLess" w="24290" h="21600">
                <a:moveTo>
                  <a:pt x="24290" y="21600"/>
                </a:moveTo>
                <a:lnTo>
                  <a:pt x="0" y="21600"/>
                </a:lnTo>
                <a:lnTo>
                  <a:pt x="1400" y="20200"/>
                </a:lnTo>
                <a:lnTo>
                  <a:pt x="22890" y="20200"/>
                </a:lnTo>
                <a:close/>
              </a:path>
              <a:path fill="lighten" w="24290" h="21600">
                <a:moveTo>
                  <a:pt x="0" y="21600"/>
                </a:moveTo>
                <a:lnTo>
                  <a:pt x="0" y="0"/>
                </a:lnTo>
                <a:lnTo>
                  <a:pt x="1400" y="1400"/>
                </a:lnTo>
                <a:lnTo>
                  <a:pt x="1400" y="20200"/>
                </a:lnTo>
                <a:close/>
              </a:path>
              <a:path fill="darken" w="24290" h="21600">
                <a:moveTo>
                  <a:pt x="12145" y="3794"/>
                </a:moveTo>
                <a:arcTo wR="7006" hR="7006" stAng="16200000" swAng="-5400000"/>
                <a:arcTo wR="7006" hR="7006" stAng="10800000" swAng="-5400000"/>
                <a:arcTo wR="7006" hR="7006" stAng="5400000" swAng="-5400000"/>
                <a:arcTo wR="7006" hR="7006" stAng="0" swAng="-5400000"/>
                <a:close/>
              </a:path>
              <a:path fill="lighten" w="24290" h="21600">
                <a:moveTo>
                  <a:pt x="12145" y="4168"/>
                </a:moveTo>
                <a:arcTo wR="1793" hR="1793" stAng="16200000" swAng="-5400000"/>
                <a:arcTo wR="1793" hR="1793" stAng="10800000" swAng="-5400000"/>
                <a:arcTo wR="1793" hR="1793" stAng="5400000" swAng="-5400000"/>
                <a:arcTo wR="1793" hR="1793" stAng="0" swAng="-5400000"/>
                <a:close/>
              </a:path>
              <a:path fill="lighten" w="24290" h="21600">
                <a:moveTo>
                  <a:pt x="9569" y="8224"/>
                </a:moveTo>
                <a:lnTo>
                  <a:pt x="13433" y="8224"/>
                </a:lnTo>
                <a:lnTo>
                  <a:pt x="13433" y="15221"/>
                </a:lnTo>
                <a:lnTo>
                  <a:pt x="14721" y="15221"/>
                </a:lnTo>
                <a:lnTo>
                  <a:pt x="14721" y="16144"/>
                </a:lnTo>
                <a:lnTo>
                  <a:pt x="9569" y="16144"/>
                </a:lnTo>
                <a:lnTo>
                  <a:pt x="9569" y="15221"/>
                </a:lnTo>
                <a:lnTo>
                  <a:pt x="10857" y="15221"/>
                </a:lnTo>
                <a:lnTo>
                  <a:pt x="10857" y="9129"/>
                </a:lnTo>
                <a:lnTo>
                  <a:pt x="9569"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14:43:30Z</dcterms:created>
  <dc:creator>h439090</dc:creator>
  <dc:description/>
  <dc:language>en-US</dc:language>
  <cp:lastModifiedBy>h439090</cp:lastModifiedBy>
  <dcterms:modified xsi:type="dcterms:W3CDTF">2006-10-31T15:10:40Z</dcterms:modified>
  <cp:revision>3</cp:revision>
  <dc:subject/>
  <dc:title>PowerPoint-Präsentation</dc:title>
</cp:coreProperties>
</file>