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C8A-20FE-41C4-A185-626F291E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EF2-68C5-4228-B0C3-E75D6F97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7A4-DD55-4429-8630-09FC808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B09-014D-408B-BAB4-E53F540D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E9A3-5E86-4DF6-9890-467A7032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E74-113C-4F9B-8783-ABE56FC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19B-6658-4A29-8E48-5DDFE4B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53AB-817C-49AE-B2FF-515CC44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9EF-84B5-429C-A3F1-1C837EA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B53-0AEA-4908-B530-578151C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3027-092A-40E5-B923-CEAFC9C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E35-3B3D-41D2-A635-D21AC311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A49B-8226-46EC-AA71-A0B04C5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89A3-9489-4BF4-8262-58F7B23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B8BF-8D09-4F34-88B8-B9E927B0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DA1B-6DF5-418E-BE9A-44BC9CD2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ACCC-CA9B-42DD-A343-5C79D0A9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2F5-A26A-47FE-98FA-0E45971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1B7-2024-4E14-99B4-6E81761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479-82CA-4251-B4FD-8795F7CF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C72-F129-422F-9C88-0C878E9D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7B1-F142-44F9-9EA3-EE3B15A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F71-7EF4-40C1-9557-787CA7E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C38-F3FB-45A6-913D-2A3868AD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EFA-1ADD-4894-985E-579E3A6E029E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E81-DC7B-430C-B9BA-9C6F7B1B13EF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Das%20GKV-Leistungsrecht.ppt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kurs 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BED-312D-4FCA-BD65-61CAA9C427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0" y="4267080"/>
            <a:ext cx="4724280" cy="457200"/>
          </a:xfrm>
          <a:prstGeom prst="rect">
            <a:avLst/>
          </a:prstGeom>
          <a:solidFill>
            <a:srgbClr val="81d4e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2480" y="29908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34434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386244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43052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ationäre Behandlung auf Kosten der K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4762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Erkrankung eines Kind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521964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Arbeitsunfähigkeit wegen einer nicht rechtswidrigen Sterilisation oder eines nicht rechtswidrigen Schwangerschaftsabbruch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97F-33EC-4085-9F21-19DAF0015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4800600"/>
            <a:ext cx="4572000" cy="380880"/>
          </a:xfrm>
          <a:prstGeom prst="rect">
            <a:avLst/>
          </a:prstGeom>
          <a:solidFill>
            <a:srgbClr val="81d4e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29908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34434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0920" y="386244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43052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ationäre Behandlung auf Kosten der K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4762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Erkrankung eines Kind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521964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Arbeitsunfähigkeit wegen einer nicht rechtswidrigen Sterilisation oder eines nicht rechtswidrigen Schwangerschaftsabbruch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2A6-0C9B-4367-8DE6-C601809576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19320" y="5257800"/>
            <a:ext cx="6781680" cy="1066680"/>
          </a:xfrm>
          <a:prstGeom prst="rect">
            <a:avLst/>
          </a:prstGeom>
          <a:solidFill>
            <a:srgbClr val="81d4e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29908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34434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386244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3052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ationäre Behandlung auf Kosten der K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4762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Erkrankung eines Kind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521964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Arbeitsunfähigkeit wegen einer nicht rechtswidrigen Sterilisation oder eines nicht rechtswidrigen Schwangerschaftsabbruch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747-7DF9-440F-AED6-DECD535D0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301920" y="3124080"/>
            <a:ext cx="3403800" cy="533520"/>
          </a:xfrm>
          <a:prstGeom prst="rect">
            <a:avLst/>
          </a:prstGeom>
          <a:solidFill>
            <a:srgbClr val="81d4e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2133720"/>
            <a:ext cx="48006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iegt vor, wenn der Versichert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3124080"/>
            <a:ext cx="53341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ine zuletzt ausgeübte Tät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3962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ine ähnlich geartete Tät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29000" y="4648320"/>
            <a:ext cx="22860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icht meh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ur auf die Gefahr hin, seinen Zustand zu verschlimmer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richten ka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AF7-AD2E-4E95-9063-695AC3D85E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14600" y="2209680"/>
            <a:ext cx="4114800" cy="459720"/>
          </a:xfrm>
          <a:prstGeom prst="rect">
            <a:avLst/>
          </a:prstGeom>
          <a:solidFill>
            <a:srgbClr val="e3e2c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zuletzt ausgeübte Tät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0720" y="2986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ähigkeit, eine andere Tätigkeit ausüben zu können führt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ich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zur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rbeitsfähigkeit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it folgenden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Ausnahm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26668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365760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3962520"/>
            <a:ext cx="5181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9680" y="39625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5720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39625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42670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rbeitsaufnahme während A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49528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Loslösung vom bisherigen Beru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19320" y="574668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neue Tätigkeit = Bewertungsgrundlage für A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476244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2670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erweisung von Versichert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B6E-3783-4E51-AF4D-FBCC1F6A8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629400" y="4267080"/>
            <a:ext cx="1447920" cy="609840"/>
          </a:xfrm>
          <a:prstGeom prst="rect">
            <a:avLst/>
          </a:prstGeom>
          <a:solidFill>
            <a:srgbClr val="81d4e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2209680"/>
            <a:ext cx="4114800" cy="459720"/>
          </a:xfrm>
          <a:prstGeom prst="rect">
            <a:avLst/>
          </a:prstGeom>
          <a:solidFill>
            <a:srgbClr val="e3e2c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zuletzt ausgeübte Tät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2986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ähigkeit, eine andere Tätigkeit ausüben zu können führt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ich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zur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rbeitsfähigkeit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it folgenden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Ausnahm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6668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65760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396252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33720" y="39625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572000" y="38098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3915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2670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rbeitsaufnahme während A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49528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Loslösung vom bisherigen Beru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43000" y="574668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neue Tätigkeit = Bewertungsgrundlage für A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476244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4267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erweisung von Versichert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A70-E283-4DD6-84B3-2D45157835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weisung von Versichert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2806560"/>
            <a:ext cx="3353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ei bestehendem Arbeitsverhältn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Verweisung wird grundsätzlich abgelehn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278136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ei aufgelöstem Arbeitsverhältn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54280" y="3695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usbildungsberu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370836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Ungelernte Tätigkei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41911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erweisung nur innerhalb des Ausbildungsberuf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4191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erweisung außerhalb der bisherigen Tätigkei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4795920"/>
            <a:ext cx="2362320" cy="1928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Kriterien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Art der Verrichtu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körperl.-geistige Fähigkei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Kenntnisse, Fertigkeit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Entfernung z. Wohnor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Vergütu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514240" y="2514600"/>
            <a:ext cx="20574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2514600"/>
            <a:ext cx="190512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581280" y="3048120"/>
            <a:ext cx="2819520" cy="609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53080" y="3048120"/>
            <a:ext cx="144792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77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9B8-361A-44F5-8176-DFF5FC44F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0" y="2286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tstehen des 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3200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ei stationärer Behandl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4692600"/>
            <a:ext cx="2666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om Beginn der Maßnahme 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3200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ei Arbeitsunfähigkei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38680" y="4646520"/>
            <a:ext cx="259092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on dem Tag an, der auf den Tag der ärztlichen Feststellung folg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26668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34320" y="29718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2971800"/>
            <a:ext cx="4648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358128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58128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EDC-8139-4334-AFFF-86D0868D01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2362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Ärztliche Feststellung der Arbeitsunfäh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3880" y="2971800"/>
            <a:ext cx="6019920" cy="7840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urch Arzt nach vertragsärztliche Regel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BMV-Ä, AU-Richtlinien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3880" y="3948120"/>
            <a:ext cx="601992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utachtliche Stellungnahme im Rahmen der Anspruchsprüfung mit hohem Beweiswe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3880" y="5157720"/>
            <a:ext cx="6019920" cy="7840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ann überprüft wer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§ 275 SGB V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9C6-4991-4019-BF73-25EEF49C52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1905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uhenstatbestän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228600" y="24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tgeltfortzahl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20" y="2986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Elternzeit nach dem BErzG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981080" y="2438280"/>
            <a:ext cx="7086600" cy="1854720"/>
            <a:chOff x="1981080" y="2438280"/>
            <a:chExt cx="7086600" cy="1854720"/>
          </a:xfrm>
        </p:grpSpPr>
        <p:sp>
          <p:nvSpPr>
            <p:cNvPr id="461" name=""/>
            <p:cNvSpPr/>
            <p:nvPr/>
          </p:nvSpPr>
          <p:spPr>
            <a:xfrm>
              <a:off x="1981080" y="2438280"/>
              <a:ext cx="48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Bezug von: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28840" y="2481120"/>
              <a:ext cx="3962520" cy="1604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Versorgungskranken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Übergangs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Unterhalts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urzarbeiter- oder Winterausfall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perrzeit nach dem SGB II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2880" y="3985920"/>
              <a:ext cx="411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oweit und solange diese Leistungen bezogen werde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48120" y="4267080"/>
            <a:ext cx="5943600" cy="1716840"/>
            <a:chOff x="3048120" y="4267080"/>
            <a:chExt cx="5943600" cy="1716840"/>
          </a:xfrm>
        </p:grpSpPr>
        <p:sp>
          <p:nvSpPr>
            <p:cNvPr id="465" name=""/>
            <p:cNvSpPr/>
            <p:nvPr/>
          </p:nvSpPr>
          <p:spPr>
            <a:xfrm>
              <a:off x="3048120" y="4267080"/>
              <a:ext cx="26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Bezug von: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29200" y="4419720"/>
              <a:ext cx="3962520" cy="1280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Mutterschafts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Verletzten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Arbeitslosen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0033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Arbeitslosenhilf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52880" y="5676840"/>
              <a:ext cx="304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Anspruch ruht in voller Höh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53352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lange AU nicht gemeldet i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205160"/>
            <a:ext cx="35812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reistellung von Arbeitsleist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Arbeitszeitmodelle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6C7-A8AC-4CFA-9600-6AE96FB23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14400" y="2362320"/>
          <a:ext cx="798840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98840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048120" y="1981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usgabensituation der AOK Hessen 200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90920" y="3428640"/>
            <a:ext cx="320040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5181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36,3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3124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,3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,5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1520" y="56386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16,0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4724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,2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77320" y="4343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4,3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350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6,6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819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5,5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60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7,7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Krankengeldausgaben 167,55 € je Mitglie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D6E-118B-4BA6-997F-8FC127353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1905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Krankengeldberechn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beitnehm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icht Arbeitnehm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3733920"/>
            <a:ext cx="33530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rechnungsgrundlag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r kalendertägliche Betrag, der für die Beitragsberechnung maßgebend wa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10080" y="52261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eachte: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Besonderheiten in Satzung möglic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ach Stund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ach Monat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371600" y="3200400"/>
            <a:ext cx="1295280" cy="99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3200400"/>
            <a:ext cx="1143000" cy="99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ezahl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520" y="2286000"/>
            <a:ext cx="175248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2286000"/>
            <a:ext cx="198108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3200400"/>
            <a:ext cx="0" cy="609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8F8-E671-4129-BA19-8B816736E2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220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rankengeldberechnung bei Zahlung nach Stun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28954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Erzieltes Arbeitsentgelt im Entgeltabrechnungszeitra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048120"/>
            <a:ext cx="21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Einmalig gezahltes Entgel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3733920"/>
            <a:ext cx="487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3429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= regelmäßiges Arbeitsentgel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86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Zahl der Stunden, für die das Arbeitentgelt gezahlt wur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24480" y="3568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tundenlohn (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eldfakto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914400" y="4800600"/>
            <a:ext cx="8001000" cy="794520"/>
            <a:chOff x="914400" y="4800600"/>
            <a:chExt cx="8001000" cy="794520"/>
          </a:xfrm>
        </p:grpSpPr>
        <p:sp>
          <p:nvSpPr>
            <p:cNvPr id="494" name=""/>
            <p:cNvSpPr/>
            <p:nvPr/>
          </p:nvSpPr>
          <p:spPr>
            <a:xfrm>
              <a:off x="914400" y="4800600"/>
              <a:ext cx="70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tundenlohn  X  regelmäßige wöchentliche Arbeitsstunden (Zeitfaktor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14400" y="5181480"/>
              <a:ext cx="6019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9520" y="52578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7 (Tage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0280" y="4952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Regelentgel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752120" y="449568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44956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ED0-6B61-470E-B9DE-F2A63CD82B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220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rankengeldberechnung bei Zahlung nach Stun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28954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Erzieltes Arbeitsentgelt im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Entgeltabrechnungszeitra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3048120"/>
            <a:ext cx="21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Einmalig gezahltes Entgel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71600" y="3733920"/>
            <a:ext cx="487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429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= regelmäßiges Arbeitsentgel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3886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Zahl der Stunden, für die das Arbeitentgelt gezahlt wur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24480" y="3568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tundenlohn (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eldfakto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14400" y="4800600"/>
            <a:ext cx="8001000" cy="794520"/>
            <a:chOff x="914400" y="4800600"/>
            <a:chExt cx="8001000" cy="794520"/>
          </a:xfrm>
        </p:grpSpPr>
        <p:sp>
          <p:nvSpPr>
            <p:cNvPr id="511" name=""/>
            <p:cNvSpPr/>
            <p:nvPr/>
          </p:nvSpPr>
          <p:spPr>
            <a:xfrm>
              <a:off x="914400" y="4800600"/>
              <a:ext cx="70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tundenlohn  X  regelmäßige wöchentliche Arbeitsstunden (Zeitfaktor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14400" y="5181480"/>
              <a:ext cx="6019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19520" y="52578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7 (Tage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4952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Regelentgel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52120" y="449568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52480" y="44956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D38-3870-466C-A88E-7CB5E786DB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2320" y="22096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2133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ntgeltabrechnungszeitra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00200" y="2666880"/>
            <a:ext cx="60958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r letzte vor Beginn  der AU abgerechnete Entgeltzeitraum, mindestens die letzten abgerechneten vier Woch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4114800"/>
            <a:ext cx="5943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bschließende Abrechnung des Arbeitgebe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91960" indent="-291960"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über vollständig erarbeitetes Entgel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91960" indent="-291960"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indestens der letzten vier Woch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52680" y="5584680"/>
            <a:ext cx="4114800" cy="733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ind vier Wochen noch nicht erreicht, ergeben sich unterschiedliche Auffassungen in Rechtsprechung und Literatu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29E-3798-4ED9-A071-BB00D78AB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220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rankengeldberechnung bei Zahlung nach Stun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28954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Erzieltes Arbeitsentgelt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im Entgeltabrechnungszeitra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3048120"/>
            <a:ext cx="21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Einmalig gezahltes Entgel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71600" y="3733920"/>
            <a:ext cx="487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3429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= regelmäßiges Arbeitsentgel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3886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Zahl der Stunden, für die das Arbeitentgelt gezahlt wur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4480" y="3568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tundenlohn (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eldfakto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914400" y="4800600"/>
            <a:ext cx="8001000" cy="794520"/>
            <a:chOff x="914400" y="4800600"/>
            <a:chExt cx="8001000" cy="794520"/>
          </a:xfrm>
        </p:grpSpPr>
        <p:sp>
          <p:nvSpPr>
            <p:cNvPr id="534" name=""/>
            <p:cNvSpPr/>
            <p:nvPr/>
          </p:nvSpPr>
          <p:spPr>
            <a:xfrm>
              <a:off x="914400" y="4800600"/>
              <a:ext cx="70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tundenlohn  X  regelmäßige wöchentliche Arbeitsstunden (Zeitfaktor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4400" y="5181480"/>
              <a:ext cx="6019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19520" y="52578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7 (Tage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0280" y="4952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Regelentgel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752120" y="449568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44956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111-8C37-44C1-8270-F4D9ADDC41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220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rankengeldberechnung bei Zahlung nach Stun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28954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Erzieltes Arbeitsentgelt im Entgeltabrechnungszeitra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3048120"/>
            <a:ext cx="21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Einmalig gezahltes Entgelt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3733920"/>
            <a:ext cx="487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429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= regelmäßiges Arbeitsentgel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3886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Zahl der Stunden, für die das Arbeitentgelt gezahlt wur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3568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tundenlohn (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eldfakto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914400" y="4800600"/>
            <a:ext cx="8001000" cy="794520"/>
            <a:chOff x="914400" y="4800600"/>
            <a:chExt cx="8001000" cy="794520"/>
          </a:xfrm>
        </p:grpSpPr>
        <p:sp>
          <p:nvSpPr>
            <p:cNvPr id="551" name=""/>
            <p:cNvSpPr/>
            <p:nvPr/>
          </p:nvSpPr>
          <p:spPr>
            <a:xfrm>
              <a:off x="914400" y="4800600"/>
              <a:ext cx="70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tundenlohn  X  regelmäßige wöchentliche Arbeitsstunden (Zeitfaktor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14400" y="5181480"/>
              <a:ext cx="6019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19520" y="52578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7 (Tage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4952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Regelentgel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52120" y="449568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52480" y="44956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F76-777B-481D-B9AA-0BD792E26A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096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inmalig gezahltes Arbeits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43000" y="2666880"/>
            <a:ext cx="6858000" cy="174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Zuwendungen, die dem Arbeitsentgelt zuzurechnen sind, und nicht für die Arbeit in einem einzelnen Entgeltabrechnungszeitraum gezahlt werd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68560" y="472428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fassungsstreit über Berücksichtigung bei Beitragsberechnung und bei Leis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706-4661-4F92-A51C-D6140A11A8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14400" y="220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rankengeldberechnung bei Zahlung nach Stun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71600" y="28954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Erzieltes Arbeitsentgelt im Entgeltabrechnungszeitra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14800" y="3048120"/>
            <a:ext cx="21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Einmalig gezahltes Entgel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3733920"/>
            <a:ext cx="487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00200" y="3429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= regelmäßiges Arbeitsentgel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3886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Zahl der Stunden, für die das Arbeitentgelt gezahlt wur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24480" y="3568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tundenlohn (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eldfakto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914400" y="4800600"/>
            <a:ext cx="8001000" cy="794520"/>
            <a:chOff x="914400" y="4800600"/>
            <a:chExt cx="8001000" cy="794520"/>
          </a:xfrm>
        </p:grpSpPr>
        <p:sp>
          <p:nvSpPr>
            <p:cNvPr id="572" name=""/>
            <p:cNvSpPr/>
            <p:nvPr/>
          </p:nvSpPr>
          <p:spPr>
            <a:xfrm>
              <a:off x="914400" y="4800600"/>
              <a:ext cx="70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tundenlohn  X  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regelmäßige wöchentliche Arbeitsstunden</a:t>
              </a: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 (Zeitfaktor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400" y="5181480"/>
              <a:ext cx="6019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19520" y="52578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7 (Tage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10280" y="4952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Regelentgel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752120" y="449568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52480" y="44956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C19-4721-41C5-A6FD-F6E3AC5ECC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41400" y="2133720"/>
            <a:ext cx="54104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gelmäßige wöchentliche Arbeitsstund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ergeben sich au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3124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inzelarbeitsvertra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8120" y="3124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etriebsvereinbar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3138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arifvertra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96252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azu gehören auch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5120" y="4419720"/>
            <a:ext cx="411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ergütete Arbeitsstunden ohne Arbeitsleistu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ehrarbeitszeit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43200" y="5289480"/>
            <a:ext cx="44956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ehrarbeitszeiten, die in drei Monaten regelmäßig geleistet wurden, werden auf die Woche hochgerechnet und zur regelmäßigen wöchentlichen Arbeitszeit addier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ECC-6F3D-48DE-8AB3-BCE0E6FA9D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161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he des Krankengel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09680" y="2895480"/>
            <a:ext cx="495324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schränkung aufgrund von Vergleichsberechn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5120" y="3949560"/>
            <a:ext cx="54100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chstregel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62040" y="4673520"/>
            <a:ext cx="601992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ücksichtigung von Sozialversicherungsbeiträ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5791320"/>
            <a:ext cx="541008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0E8-7AC6-4B91-9DBB-BB029C005C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2362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52480" y="2990880"/>
            <a:ext cx="5639040" cy="1141920"/>
            <a:chOff x="1752480" y="2990880"/>
            <a:chExt cx="5639040" cy="1141920"/>
          </a:xfrm>
        </p:grpSpPr>
        <p:sp>
          <p:nvSpPr>
            <p:cNvPr id="308" name=""/>
            <p:cNvSpPr/>
            <p:nvPr/>
          </p:nvSpPr>
          <p:spPr>
            <a:xfrm>
              <a:off x="1752480" y="2990880"/>
              <a:ext cx="5639040" cy="398880"/>
            </a:xfrm>
            <a:prstGeom prst="rect">
              <a:avLst/>
            </a:prstGeom>
            <a:solidFill>
              <a:srgbClr val="69f2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Versicherungsverhältni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2480" y="3352680"/>
              <a:ext cx="5639040" cy="398880"/>
            </a:xfrm>
            <a:prstGeom prst="rect">
              <a:avLst/>
            </a:prstGeom>
            <a:solidFill>
              <a:srgbClr val="69f2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Krankhei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2480" y="3733920"/>
              <a:ext cx="5639040" cy="398880"/>
            </a:xfrm>
            <a:prstGeom prst="rect">
              <a:avLst/>
            </a:prstGeom>
            <a:solidFill>
              <a:srgbClr val="69f2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rbeitsunfähigkei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752480" y="4267080"/>
            <a:ext cx="563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ationäre Behandlung auf Kosten der K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4762440"/>
            <a:ext cx="563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Erkrankung eines Kind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5219640"/>
            <a:ext cx="6705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engeld bei Arbeitsunfähigkeit wegen einer nicht rechtswidrigen Sterilisation oder eines nicht rechtswidrigen Schwangerschaftsabbruch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F4A-219A-49C0-A1BC-31685DD14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161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he des Krankengel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2895480"/>
            <a:ext cx="49532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schränkung aufgrund von Vergleichsberechn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68480" y="3949560"/>
            <a:ext cx="5181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chstregel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62040" y="4673520"/>
            <a:ext cx="601992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ücksichtigung von Sozialversicherungsbeiträ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28800" y="5791320"/>
            <a:ext cx="541008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09C-A1BD-4CF5-A830-07815C231E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2057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schränkung aufgrund von Vergleichsberechn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35654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0 % des Regelentgel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90920" y="478476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icht mehr als 90 % des Nettoarbeitsentgel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581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icht mehr als 100 % des Nettoarbeitsentgelts bei Einmalzahlung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905120" y="2438280"/>
            <a:ext cx="2666880" cy="1143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0" y="2438280"/>
            <a:ext cx="0" cy="2362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2438280"/>
            <a:ext cx="2590920" cy="1219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90D-CB53-4390-8F18-B598BF859A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161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he des Krankengel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2895480"/>
            <a:ext cx="495324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schränkung aufgrund von Vergleichsberechn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68480" y="3949560"/>
            <a:ext cx="5181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chstregel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62040" y="4673520"/>
            <a:ext cx="601992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ücksichtigung von Sozialversicherungsbeiträ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5791320"/>
            <a:ext cx="541008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913-749D-4B72-91FD-70B5DE29E6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20574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chstregel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71600" y="3733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undsätzlich keine Beschränkung der Höhe n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275904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gelentgelt wird aus dem vollen Arbeitsentgelt berech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419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iträge der GKV werden nur bis zur Beitragsbemessungsgrenze erhob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01720" y="54608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orrektur durch kalendertägliche Beitragsbemessungsgrenz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60C-4FDF-4026-A3F4-68CBE28A39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161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he des Krankengel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2895480"/>
            <a:ext cx="495324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schränkung aufgrund von Vergleichsberechn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68480" y="3949560"/>
            <a:ext cx="5181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chstregel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62040" y="4673520"/>
            <a:ext cx="6019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ücksichtigung von Sozialversicherungsbeiträ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5791320"/>
            <a:ext cx="541008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569-76E3-4FD1-B9E0-DE8CB2237F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2057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ücksichtigung von Sozialversicherungsbeiträ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2590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itragspflicht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0" y="3048120"/>
            <a:ext cx="464832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ntenversicher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beitslosenversicherung*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flegeversicher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jeweils hälftig von Versichertem und Krankenkass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* Ausnahme: Bei Berechnung des Krankengeldes aus laufender Entgeltersatzleistung nach SGB III zahlt Krankenkasse allein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14400" y="6019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itragsfreiheit in Krankenversicher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423-3C7D-475F-8D0B-D1729A7790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161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he des Krankengel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2895480"/>
            <a:ext cx="495324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schränkung aufgrund von Vergleichsberechn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68480" y="3949560"/>
            <a:ext cx="5181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öchstregelentge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62040" y="4673520"/>
            <a:ext cx="6019920" cy="825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ücksichtigung von Sozialversicherungsbeiträ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8800" y="5791320"/>
            <a:ext cx="5410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A3D-CC8A-4DF8-9907-42A537ABBD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8080" y="1943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 (I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43000" y="32004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2680" y="2743200"/>
            <a:ext cx="6629400" cy="923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Times New Roman"/>
              </a:rPr>
              <a:t>Arbeitslosengeld, -hilfe und Unterhaltsgeld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Krankengeld in Höhe der zuletzt gezahlten Leist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70080" y="3809880"/>
            <a:ext cx="6629400" cy="1289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Krankengeld nach </a:t>
            </a:r>
            <a:r>
              <a:rPr b="1" lang="de-DE" sz="2400" spc="-1" strike="noStrike">
                <a:solidFill>
                  <a:srgbClr val="003366"/>
                </a:solidFill>
                <a:latin typeface="Times New Roman"/>
              </a:rPr>
              <a:t>Übergangs- und Versorgungs-krankengeldbezug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Kontinuität der Bemessungsgrundla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57480" y="5283360"/>
            <a:ext cx="6629400" cy="923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tterschaftsgel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etzter abgerechneter Entgeltabrechnungszeitra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211-20CE-44B8-A8B6-712F1C7C16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1943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rechnung bei Zusammentreffen mit anderen Sozialleistungen (II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43000" y="32004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82680" y="2743200"/>
            <a:ext cx="6629400" cy="3969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Times New Roman"/>
              </a:rPr>
              <a:t>Kurzarbeiter- und Winterausfallgeld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AU während der Ausfallperio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Entgeltfortzahlung durch Arbeitgeber und BAf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Danach Krankengeld nach dem regelmäßigen Arbeitsentgelt vor dem Arbeitsausfa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AU vor der Ausfallperio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Entgeltfortzahlung durch Arbeitgeber in Höhe des Kurzlohnes, keine Leistung der BAf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Während der Entgeltfortzahlung durch Arbeitgeber Krankengeldzahlung in Höhe des Anteils durch BAf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Danach s.o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F4F-52A2-4143-AAF2-8A86DC141A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2057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uer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0996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undsätzlich unbefrist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öchstbezugsdau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" y="472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8 Woch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14880" y="4724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 Jah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= Blockfr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0" y="4686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gen derselben 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72000" y="2514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52480" y="4572000"/>
            <a:ext cx="6096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487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79F-C46E-47D1-A1A1-CBC9AB585A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3336840"/>
            <a:ext cx="5639040" cy="398880"/>
          </a:xfrm>
          <a:prstGeom prst="rect">
            <a:avLst/>
          </a:prstGeom>
          <a:solidFill>
            <a:srgbClr val="f1e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378936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208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068-5151-4BA5-9577-3B3A5E2B22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uer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0996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undsätzlich unbefrist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öchstbezugsdau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5800" y="472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8 Woch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14880" y="4724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 Jah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= Blockfr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0" y="4686480"/>
            <a:ext cx="1981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gen derselben 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2514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52480" y="4572000"/>
            <a:ext cx="6096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487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02E-1BC1-4AAB-AE05-F4822477BB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05040" y="2070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eselbe Erkrank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6068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inheitliches Krankheitsgeschehen im ursächlichen Zusammenha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66680" y="43578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uf dasselbe medizinisch nicht ausgeheilte Grundleiden zurückzufüh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066680" y="306216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dentität der Diagnose nicht erforderlic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7C8-F5DE-4ACC-AFA6-7D31F01E16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09680" y="2057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uer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0996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undsätzlich unbefrist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öchstbezugsdau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" y="472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8 Woch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314880" y="4724280"/>
            <a:ext cx="25146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 Jah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= Blockfr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4686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gen derselben 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52480" y="4572000"/>
            <a:ext cx="6096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487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1AD-935E-4C18-B1E0-F21CD9BA0A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1930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fr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19320" y="254016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eginn mit erstmaliger AU für die zugrundeliegende Erkrank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98400" y="2971800"/>
            <a:ext cx="7734240" cy="914400"/>
            <a:chOff x="698400" y="2971800"/>
            <a:chExt cx="7734240" cy="914400"/>
          </a:xfrm>
        </p:grpSpPr>
        <p:sp>
          <p:nvSpPr>
            <p:cNvPr id="697" name=""/>
            <p:cNvSpPr/>
            <p:nvPr/>
          </p:nvSpPr>
          <p:spPr>
            <a:xfrm>
              <a:off x="1384200" y="35812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84200" y="3886200"/>
              <a:ext cx="6476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60960" y="35812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8400" y="2971800"/>
              <a:ext cx="1447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AU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10.05.0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89640" y="33274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09.05.0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333440" y="45864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n jede Blockfrist schließt sich eine weitere 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447920" y="5486400"/>
            <a:ext cx="6375240" cy="380880"/>
            <a:chOff x="1447920" y="5486400"/>
            <a:chExt cx="6375240" cy="380880"/>
          </a:xfrm>
        </p:grpSpPr>
        <p:sp>
          <p:nvSpPr>
            <p:cNvPr id="704" name=""/>
            <p:cNvSpPr/>
            <p:nvPr/>
          </p:nvSpPr>
          <p:spPr>
            <a:xfrm>
              <a:off x="1447920" y="55627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47920" y="5867280"/>
              <a:ext cx="63752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72000" y="55627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23160" y="55627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50960" y="5486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1. Blockfris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03640" y="54864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2. Blockfris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6F2-2C3F-43E1-BEFE-B75E865AAC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94040" y="19670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rankengeldbezugszeit 78 Woch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 Blockfris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95280" y="3886200"/>
            <a:ext cx="6400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96080" y="34290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76720" y="4114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fr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14400" y="3200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10.05.00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49960" y="31878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9.05.0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295280" y="3429000"/>
            <a:ext cx="1600200" cy="457200"/>
            <a:chOff x="1295280" y="3429000"/>
            <a:chExt cx="1600200" cy="457200"/>
          </a:xfrm>
        </p:grpSpPr>
        <p:sp>
          <p:nvSpPr>
            <p:cNvPr id="718" name=""/>
            <p:cNvSpPr/>
            <p:nvPr/>
          </p:nvSpPr>
          <p:spPr>
            <a:xfrm>
              <a:off x="1295280" y="3429000"/>
              <a:ext cx="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95280" y="3429000"/>
              <a:ext cx="1600200" cy="3808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47920" y="3479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30 Woche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181480" y="3429000"/>
            <a:ext cx="1905120" cy="380880"/>
            <a:chOff x="5181480" y="3429000"/>
            <a:chExt cx="1905120" cy="380880"/>
          </a:xfrm>
        </p:grpSpPr>
        <p:sp>
          <p:nvSpPr>
            <p:cNvPr id="722" name=""/>
            <p:cNvSpPr/>
            <p:nvPr/>
          </p:nvSpPr>
          <p:spPr>
            <a:xfrm>
              <a:off x="5181480" y="3429000"/>
              <a:ext cx="1905120" cy="3808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86400" y="34671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48 Woche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943600" y="3962520"/>
            <a:ext cx="2286000" cy="1418760"/>
            <a:chOff x="5943600" y="3962520"/>
            <a:chExt cx="2286000" cy="1418760"/>
          </a:xfrm>
        </p:grpSpPr>
        <p:sp>
          <p:nvSpPr>
            <p:cNvPr id="725" name=""/>
            <p:cNvSpPr/>
            <p:nvPr/>
          </p:nvSpPr>
          <p:spPr>
            <a:xfrm flipH="1" flipV="1">
              <a:off x="7086600" y="3962520"/>
              <a:ext cx="144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43600" y="480060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Ende des Krankengeldanspruch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 flipV="1">
            <a:off x="1295280" y="34290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20F-7643-41BF-8519-8880D936D3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333440" y="20955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ederaufleb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825480" y="3193920"/>
            <a:ext cx="7543800" cy="1607400"/>
            <a:chOff x="825480" y="3193920"/>
            <a:chExt cx="7543800" cy="1607400"/>
          </a:xfrm>
        </p:grpSpPr>
        <p:sp>
          <p:nvSpPr>
            <p:cNvPr id="731" name=""/>
            <p:cNvSpPr/>
            <p:nvPr/>
          </p:nvSpPr>
          <p:spPr>
            <a:xfrm>
              <a:off x="4635360" y="4006800"/>
              <a:ext cx="762120" cy="380880"/>
            </a:xfrm>
            <a:prstGeom prst="rect">
              <a:avLst/>
            </a:prstGeom>
            <a:solidFill>
              <a:srgbClr val="f1ee7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01440" y="4464000"/>
              <a:ext cx="7467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44840" y="4006800"/>
              <a:ext cx="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01440" y="4006800"/>
              <a:ext cx="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01440" y="4006800"/>
              <a:ext cx="1143000" cy="3808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25480" y="40575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30 Woche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3111480" y="4006800"/>
              <a:ext cx="1523880" cy="380880"/>
              <a:chOff x="3111480" y="4006800"/>
              <a:chExt cx="1523880" cy="38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3111480" y="4006800"/>
                <a:ext cx="1523880" cy="38088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263760" y="404496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48 Wochen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1358640" y="446400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1. Blockfris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97480" y="4464000"/>
              <a:ext cx="259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2. Blockfris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78160" y="319392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6 Monate Arbeitsfähigkei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16240" y="37018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97480" y="4006800"/>
              <a:ext cx="2361960" cy="3808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78360" y="405756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Neuer KG-Anspruc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F2F-5D8C-4CD1-B5B2-A23C9DAE67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95280" y="20574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istungsdauer bei hinzutretenden Erkrankung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304920" y="3200400"/>
            <a:ext cx="6248160" cy="687960"/>
            <a:chOff x="304920" y="3200400"/>
            <a:chExt cx="6248160" cy="687960"/>
          </a:xfrm>
        </p:grpSpPr>
        <p:sp>
          <p:nvSpPr>
            <p:cNvPr id="749" name=""/>
            <p:cNvSpPr/>
            <p:nvPr/>
          </p:nvSpPr>
          <p:spPr>
            <a:xfrm>
              <a:off x="1219320" y="35812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19320" y="3886200"/>
              <a:ext cx="5333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86200" y="35812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53080" y="35812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4920" y="32004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rankheit 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23880" y="35812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1. Blockfrist 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43400" y="35812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2. Blockfrist 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600200" y="4495680"/>
            <a:ext cx="6248520" cy="687960"/>
            <a:chOff x="1600200" y="4495680"/>
            <a:chExt cx="6248520" cy="687960"/>
          </a:xfrm>
        </p:grpSpPr>
        <p:sp>
          <p:nvSpPr>
            <p:cNvPr id="757" name=""/>
            <p:cNvSpPr/>
            <p:nvPr/>
          </p:nvSpPr>
          <p:spPr>
            <a:xfrm>
              <a:off x="2514600" y="487656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14600" y="5181480"/>
              <a:ext cx="53341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81480" y="487656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48720" y="487656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00200" y="44956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rankheit b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19520" y="487656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1. Blockfrist b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8680" y="487656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2. Blockfrist b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397-3421-46B3-B0A6-56660253F8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95280" y="20574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inzutretende Erkrankung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19320" y="2819520"/>
            <a:ext cx="0" cy="1066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3886200"/>
            <a:ext cx="53337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43400" y="35812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9520" y="42670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4876920"/>
            <a:ext cx="53337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219320" y="3048120"/>
            <a:ext cx="1650960" cy="380880"/>
            <a:chOff x="1219320" y="3048120"/>
            <a:chExt cx="1650960" cy="380880"/>
          </a:xfrm>
        </p:grpSpPr>
        <p:sp>
          <p:nvSpPr>
            <p:cNvPr id="772" name=""/>
            <p:cNvSpPr/>
            <p:nvPr/>
          </p:nvSpPr>
          <p:spPr>
            <a:xfrm>
              <a:off x="1219320" y="3048120"/>
              <a:ext cx="160020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0080" y="30862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Krankheit 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905120" y="3467160"/>
            <a:ext cx="1619280" cy="380880"/>
            <a:chOff x="1905120" y="3467160"/>
            <a:chExt cx="1619280" cy="380880"/>
          </a:xfrm>
        </p:grpSpPr>
        <p:sp>
          <p:nvSpPr>
            <p:cNvPr id="775" name=""/>
            <p:cNvSpPr/>
            <p:nvPr/>
          </p:nvSpPr>
          <p:spPr>
            <a:xfrm>
              <a:off x="1905120" y="3467160"/>
              <a:ext cx="160020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24200" y="34956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rankheit b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600200" y="38196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Blockfrist Krankheit 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819520" y="281916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19520" y="4800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Blockfrist Krankheit b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FB2-3FC1-4FBF-AC80-0D334E20A5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14400" y="2743200"/>
            <a:ext cx="0" cy="2514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14400" y="525780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914400" y="2666880"/>
            <a:ext cx="3657600" cy="990720"/>
            <a:chOff x="914400" y="2666880"/>
            <a:chExt cx="3657600" cy="990720"/>
          </a:xfrm>
        </p:grpSpPr>
        <p:sp>
          <p:nvSpPr>
            <p:cNvPr id="784" name=""/>
            <p:cNvSpPr/>
            <p:nvPr/>
          </p:nvSpPr>
          <p:spPr>
            <a:xfrm>
              <a:off x="914400" y="2971800"/>
              <a:ext cx="3657600" cy="685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71600" y="312408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 Wochen KG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23880" y="26668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Krankheit a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219320" y="5181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frist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971800" y="3581280"/>
            <a:ext cx="4800600" cy="990720"/>
            <a:chOff x="2971800" y="3581280"/>
            <a:chExt cx="4800600" cy="990720"/>
          </a:xfrm>
        </p:grpSpPr>
        <p:sp>
          <p:nvSpPr>
            <p:cNvPr id="789" name=""/>
            <p:cNvSpPr/>
            <p:nvPr/>
          </p:nvSpPr>
          <p:spPr>
            <a:xfrm>
              <a:off x="2971800" y="3886200"/>
              <a:ext cx="4800600" cy="6858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86200" y="403848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70 Wochen au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81280" y="35812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Krankheit b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4572000" y="3657600"/>
            <a:ext cx="0" cy="19051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5562720"/>
            <a:ext cx="3962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41972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frist 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4572000" y="4571640"/>
            <a:ext cx="1828800" cy="612360"/>
            <a:chOff x="4572000" y="4571640"/>
            <a:chExt cx="1828800" cy="612360"/>
          </a:xfrm>
        </p:grpSpPr>
        <p:sp>
          <p:nvSpPr>
            <p:cNvPr id="796" name=""/>
            <p:cNvSpPr/>
            <p:nvPr/>
          </p:nvSpPr>
          <p:spPr>
            <a:xfrm>
              <a:off x="4572000" y="4876920"/>
              <a:ext cx="1447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019920" y="457164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72000" y="4876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28 Wochen Rest K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295280" y="20574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istungsdauer bei hinzutretender Erkrankung 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85A-CC75-4825-AC07-89B00F5071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295280" y="20574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istungsdauer bei hinzutretender Erkrankung I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0" cy="2514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14400" y="5334120"/>
            <a:ext cx="6477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0" cy="27432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66880" y="6172200"/>
            <a:ext cx="6248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685800" y="2895480"/>
            <a:ext cx="2286000" cy="990720"/>
            <a:chOff x="685800" y="2895480"/>
            <a:chExt cx="2286000" cy="990720"/>
          </a:xfrm>
        </p:grpSpPr>
        <p:sp>
          <p:nvSpPr>
            <p:cNvPr id="807" name=""/>
            <p:cNvSpPr/>
            <p:nvPr/>
          </p:nvSpPr>
          <p:spPr>
            <a:xfrm>
              <a:off x="914400" y="3200400"/>
              <a:ext cx="1752480" cy="685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2120" y="28954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Krankheit a 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50 Wochen K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200400" y="327672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8 Woch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3581280" y="2895480"/>
            <a:ext cx="2133720" cy="990720"/>
            <a:chOff x="3581280" y="2895480"/>
            <a:chExt cx="2133720" cy="990720"/>
          </a:xfrm>
        </p:grpSpPr>
        <p:sp>
          <p:nvSpPr>
            <p:cNvPr id="812" name=""/>
            <p:cNvSpPr/>
            <p:nvPr/>
          </p:nvSpPr>
          <p:spPr>
            <a:xfrm>
              <a:off x="3809880" y="3200400"/>
              <a:ext cx="914400" cy="685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81280" y="28954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Krankheit a 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81480" y="3200400"/>
              <a:ext cx="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24280" y="3200400"/>
              <a:ext cx="99072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1828800" y="4159080"/>
            <a:ext cx="2362320" cy="968040"/>
            <a:chOff x="1828800" y="4159080"/>
            <a:chExt cx="2362320" cy="968040"/>
          </a:xfrm>
        </p:grpSpPr>
        <p:sp>
          <p:nvSpPr>
            <p:cNvPr id="817" name=""/>
            <p:cNvSpPr/>
            <p:nvPr/>
          </p:nvSpPr>
          <p:spPr>
            <a:xfrm>
              <a:off x="2666880" y="4419720"/>
              <a:ext cx="914400" cy="6858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05120" y="4159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Krankheit b 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28800" y="4419720"/>
              <a:ext cx="83808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09680" y="449568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0 Woche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K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200400" y="3224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8 Woch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frist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frist 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6400800" y="4114800"/>
            <a:ext cx="2514600" cy="990720"/>
            <a:chOff x="6400800" y="4114800"/>
            <a:chExt cx="2514600" cy="990720"/>
          </a:xfrm>
        </p:grpSpPr>
        <p:sp>
          <p:nvSpPr>
            <p:cNvPr id="825" name=""/>
            <p:cNvSpPr/>
            <p:nvPr/>
          </p:nvSpPr>
          <p:spPr>
            <a:xfrm>
              <a:off x="6553080" y="4419720"/>
              <a:ext cx="1524240" cy="6858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51760" y="4419720"/>
              <a:ext cx="83808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00800" y="4584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8 Wochen K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29400" y="41148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Krankheit b 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65E-C723-42C6-BE5A-330B1175A49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2133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2971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sicherungspflich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024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iwillige Versicher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819520" y="2514600"/>
            <a:ext cx="167616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2527200"/>
            <a:ext cx="137160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3733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ersicherungspflichtig Beschäftig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8720" y="4214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Leistungsbezieher nach dem SGB II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79124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Leistungen zur Teilhabe am Arbeitsleb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280" y="52578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Behinderte Mensche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§ 5 Abs. 1 Nrn. 7, 8 SGB V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37148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lbständig Tätig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05440" y="420516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Arbeitnehmer über Jahresarbeitsent-geltgrenz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54A-0CAA-42A7-AB73-6206C7A16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438280" y="1905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waltungsverfah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5B7-8FAF-4DEC-92BA-BBA186B8DF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1981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tscheidung der Krankenkas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66680" y="4724280"/>
            <a:ext cx="73152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7200" y="2946240"/>
            <a:ext cx="1219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eginn AU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1.05.0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066680" y="358092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066680" y="3809880"/>
            <a:ext cx="2210040" cy="914400"/>
            <a:chOff x="1066680" y="3809880"/>
            <a:chExt cx="2210040" cy="914400"/>
          </a:xfrm>
        </p:grpSpPr>
        <p:sp>
          <p:nvSpPr>
            <p:cNvPr id="839" name=""/>
            <p:cNvSpPr/>
            <p:nvPr/>
          </p:nvSpPr>
          <p:spPr>
            <a:xfrm>
              <a:off x="1066680" y="3809880"/>
              <a:ext cx="221004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19320" y="4038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ntgeltfortzahlun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066680" y="4829760"/>
            <a:ext cx="1676520" cy="1466280"/>
            <a:chOff x="1066680" y="4829760"/>
            <a:chExt cx="1676520" cy="1466280"/>
          </a:xfrm>
        </p:grpSpPr>
        <p:sp>
          <p:nvSpPr>
            <p:cNvPr id="842" name=""/>
            <p:cNvSpPr/>
            <p:nvPr/>
          </p:nvSpPr>
          <p:spPr>
            <a:xfrm flipV="1">
              <a:off x="1804680" y="4829760"/>
              <a:ext cx="918720" cy="696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66680" y="5562720"/>
              <a:ext cx="167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Zusendung der Unterlagen durch Krankenkass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2666880" y="4738320"/>
            <a:ext cx="2514600" cy="1589040"/>
            <a:chOff x="2666880" y="4738320"/>
            <a:chExt cx="2514600" cy="1589040"/>
          </a:xfrm>
        </p:grpSpPr>
        <p:sp>
          <p:nvSpPr>
            <p:cNvPr id="845" name=""/>
            <p:cNvSpPr/>
            <p:nvPr/>
          </p:nvSpPr>
          <p:spPr>
            <a:xfrm flipV="1">
              <a:off x="3820680" y="4738320"/>
              <a:ext cx="889920" cy="787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66880" y="5594040"/>
              <a:ext cx="2514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Vorlage Auszahlungsschein und Verdienstbescheinigung durch Versicherte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247644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11.06.0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276720" y="3657240"/>
            <a:ext cx="1447560" cy="1067040"/>
            <a:chOff x="3276720" y="3657240"/>
            <a:chExt cx="1447560" cy="1067040"/>
          </a:xfrm>
        </p:grpSpPr>
        <p:sp>
          <p:nvSpPr>
            <p:cNvPr id="849" name=""/>
            <p:cNvSpPr/>
            <p:nvPr/>
          </p:nvSpPr>
          <p:spPr>
            <a:xfrm>
              <a:off x="3276720" y="3657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4724280" y="3657240"/>
              <a:ext cx="0" cy="1066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3276720" y="3733920"/>
              <a:ext cx="1447560" cy="990360"/>
              <a:chOff x="3276720" y="3733920"/>
              <a:chExt cx="1447560" cy="990360"/>
            </a:xfrm>
          </p:grpSpPr>
          <p:sp>
            <p:nvSpPr>
              <p:cNvPr id="852" name=""/>
              <p:cNvSpPr/>
              <p:nvPr/>
            </p:nvSpPr>
            <p:spPr>
              <a:xfrm>
                <a:off x="3276720" y="3733920"/>
                <a:ext cx="1447560" cy="990360"/>
              </a:xfrm>
              <a:prstGeom prst="leftArrow">
                <a:avLst>
                  <a:gd name="adj1" fmla="val 50000"/>
                  <a:gd name="adj2" fmla="val 36541"/>
                </a:avLst>
              </a:prstGeom>
              <a:solidFill>
                <a:srgbClr val="33cc33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492360" y="4078440"/>
                <a:ext cx="12193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Krankengel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4" name=""/>
          <p:cNvGrpSpPr/>
          <p:nvPr/>
        </p:nvGrpSpPr>
        <p:grpSpPr>
          <a:xfrm>
            <a:off x="5181480" y="4723920"/>
            <a:ext cx="1905120" cy="1145880"/>
            <a:chOff x="5181480" y="4723920"/>
            <a:chExt cx="1905120" cy="1145880"/>
          </a:xfrm>
        </p:grpSpPr>
        <p:sp>
          <p:nvSpPr>
            <p:cNvPr id="855" name=""/>
            <p:cNvSpPr/>
            <p:nvPr/>
          </p:nvSpPr>
          <p:spPr>
            <a:xfrm flipV="1">
              <a:off x="6172200" y="4723920"/>
              <a:ext cx="0" cy="762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81480" y="55627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Vorlage Auszahlsche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724280" y="3657240"/>
            <a:ext cx="1449360" cy="1067040"/>
            <a:chOff x="4724280" y="3657240"/>
            <a:chExt cx="1449360" cy="1067040"/>
          </a:xfrm>
        </p:grpSpPr>
        <p:sp>
          <p:nvSpPr>
            <p:cNvPr id="858" name=""/>
            <p:cNvSpPr/>
            <p:nvPr/>
          </p:nvSpPr>
          <p:spPr>
            <a:xfrm>
              <a:off x="4724280" y="3733920"/>
              <a:ext cx="1447920" cy="990360"/>
            </a:xfrm>
            <a:prstGeom prst="leftArrow">
              <a:avLst>
                <a:gd name="adj1" fmla="val 50000"/>
                <a:gd name="adj2" fmla="val 36550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40280" y="4078440"/>
              <a:ext cx="12193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ranken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172200" y="3657240"/>
              <a:ext cx="1440" cy="1066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172200" y="3657240"/>
            <a:ext cx="1449360" cy="1067040"/>
            <a:chOff x="6172200" y="3657240"/>
            <a:chExt cx="1449360" cy="1067040"/>
          </a:xfrm>
        </p:grpSpPr>
        <p:sp>
          <p:nvSpPr>
            <p:cNvPr id="862" name=""/>
            <p:cNvSpPr/>
            <p:nvPr/>
          </p:nvSpPr>
          <p:spPr>
            <a:xfrm>
              <a:off x="6172200" y="3733920"/>
              <a:ext cx="1447560" cy="990360"/>
            </a:xfrm>
            <a:prstGeom prst="leftArrow">
              <a:avLst>
                <a:gd name="adj1" fmla="val 50000"/>
                <a:gd name="adj2" fmla="val 36541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87840" y="4078440"/>
              <a:ext cx="12193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rankengel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9760" y="3657240"/>
              <a:ext cx="1800" cy="1066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629400" y="4723920"/>
            <a:ext cx="1905120" cy="1374480"/>
            <a:chOff x="6629400" y="4723920"/>
            <a:chExt cx="1905120" cy="1374480"/>
          </a:xfrm>
        </p:grpSpPr>
        <p:sp>
          <p:nvSpPr>
            <p:cNvPr id="866" name=""/>
            <p:cNvSpPr/>
            <p:nvPr/>
          </p:nvSpPr>
          <p:spPr>
            <a:xfrm flipV="1">
              <a:off x="7620120" y="4723920"/>
              <a:ext cx="0" cy="762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629400" y="57913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Vorlage Auszahlsche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410080" y="2514600"/>
            <a:ext cx="1676520" cy="1069200"/>
            <a:chOff x="5410080" y="2514600"/>
            <a:chExt cx="1676520" cy="1069200"/>
          </a:xfrm>
        </p:grpSpPr>
        <p:sp>
          <p:nvSpPr>
            <p:cNvPr id="869" name=""/>
            <p:cNvSpPr/>
            <p:nvPr/>
          </p:nvSpPr>
          <p:spPr>
            <a:xfrm>
              <a:off x="5562720" y="32767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15.07.0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5880" y="3073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410080" y="251460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Verwaltungsakt durch KK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6858000" y="2514600"/>
            <a:ext cx="1676520" cy="1069200"/>
            <a:chOff x="6858000" y="2514600"/>
            <a:chExt cx="1676520" cy="1069200"/>
          </a:xfrm>
        </p:grpSpPr>
        <p:sp>
          <p:nvSpPr>
            <p:cNvPr id="873" name=""/>
            <p:cNvSpPr/>
            <p:nvPr/>
          </p:nvSpPr>
          <p:spPr>
            <a:xfrm>
              <a:off x="6934320" y="3276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01.08.0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20120" y="3073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0" y="251460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Verwaltungsakt durch KK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886200" y="2517840"/>
            <a:ext cx="1676520" cy="1065960"/>
            <a:chOff x="3886200" y="2517840"/>
            <a:chExt cx="1676520" cy="1065960"/>
          </a:xfrm>
        </p:grpSpPr>
        <p:sp>
          <p:nvSpPr>
            <p:cNvPr id="877" name=""/>
            <p:cNvSpPr/>
            <p:nvPr/>
          </p:nvSpPr>
          <p:spPr>
            <a:xfrm>
              <a:off x="3886200" y="251784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Verwaltungsakt durch KK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4800" y="32767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30.06.0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48320" y="30481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D19-6ADA-4BEB-99AD-14D21EA414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514600" y="2057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üfung der AU durch MD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22640" y="25909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DK-Stellungnahme ist einzuhol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434960" y="304812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Zur Sicherung des Behandlungserfolg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51240" y="33336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Zur Beseitigung von Zweifeln an A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66680" y="3809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äufig Kurz-A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7280" y="38098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U am Tag vor oder nach Wochenen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43200" y="434340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U durch Arzt, der durch häufiges Krankschreiben aufgefallen is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981080" y="3657240"/>
            <a:ext cx="2590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0" y="3657600"/>
            <a:ext cx="28195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d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n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14400" y="57150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gen Art, Schwere, Dauer oder Häufigkeit der Erkrankung Zweifel an der AU besteh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D2F-8974-4429-905C-4643C879B4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38280" y="18972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66880" y="20574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inschaltung MDK zur AU-Prüf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86200" y="2590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U liegt nicht v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76920" y="2438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38480" y="300024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itteilung an Arzt und Versicher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76920" y="28954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37339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ntscheidung wird akzeptier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867280" y="5257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Kein Krankengel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16800" y="450864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7400" y="3670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ntscheidung wird nicht akzeptier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952880" y="3581280"/>
            <a:ext cx="167652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48120" y="3581280"/>
            <a:ext cx="17524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57400" y="4267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Zweitbegutacht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718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47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U bestätig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676520" y="4571640"/>
            <a:ext cx="11430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71800" y="4724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U nicht bestätig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71800" y="4572000"/>
            <a:ext cx="8380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62320" y="5181480"/>
            <a:ext cx="304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itteilung an Versicherten, dass AF vorliegt, Zahlung von KG rückwirkend ab Mitteilung der Zweitbegutacht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5029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054-A465-426E-8D85-3AB47349C0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066680" y="2774880"/>
            <a:ext cx="7086600" cy="2830320"/>
            <a:chOff x="1066680" y="2774880"/>
            <a:chExt cx="7086600" cy="2830320"/>
          </a:xfrm>
        </p:grpSpPr>
        <p:sp>
          <p:nvSpPr>
            <p:cNvPr id="916" name=""/>
            <p:cNvSpPr/>
            <p:nvPr/>
          </p:nvSpPr>
          <p:spPr>
            <a:xfrm>
              <a:off x="1066680" y="4527360"/>
              <a:ext cx="7086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43000" y="3765600"/>
              <a:ext cx="1752480" cy="761760"/>
            </a:xfrm>
            <a:prstGeom prst="leftArrow">
              <a:avLst>
                <a:gd name="adj1" fmla="val 50000"/>
                <a:gd name="adj2" fmla="val 57514"/>
              </a:avLst>
            </a:prstGeom>
            <a:solidFill>
              <a:srgbClr val="f1ee7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895480" y="3460680"/>
              <a:ext cx="0" cy="1066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09760" y="39942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G-Zahlu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57600" y="277488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Ergebnis: keine AU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3352680" y="3308040"/>
              <a:ext cx="761760" cy="1676520"/>
            </a:xfrm>
            <a:prstGeom prst="downArrow">
              <a:avLst>
                <a:gd name="adj1" fmla="val 50000"/>
                <a:gd name="adj2" fmla="val 55021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19520" y="3994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MDK-Begutachtu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3079800"/>
              <a:ext cx="0" cy="10666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4572000" y="4222800"/>
              <a:ext cx="0" cy="3808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29000" y="452736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Med. Widerspruc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5105520" y="3308400"/>
              <a:ext cx="761760" cy="1676160"/>
            </a:xfrm>
            <a:prstGeom prst="downArrow">
              <a:avLst>
                <a:gd name="adj1" fmla="val 50000"/>
                <a:gd name="adj2" fmla="val 55009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19720" y="39942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2. Begutachtu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10080" y="27748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Ergebnis: keine AU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24480" y="3079800"/>
              <a:ext cx="0" cy="10666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10711800">
              <a:off x="3047760" y="4647600"/>
              <a:ext cx="3348000" cy="9144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1ee7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81280" y="5137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KG-Zahlu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3276720" y="2286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3828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U-Prüf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BB2-3601-494A-9358-10B457C3367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905120" y="2057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gfall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2666880"/>
            <a:ext cx="8077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rhebliche Gefährdung oder Minderung der Erwerbs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ufforderung, innerhalb von 10 Wochen einen Antrag auf Leistungen zur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066680" y="3641760"/>
            <a:ext cx="7696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768760" indent="-185436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edizinischen Rehabili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2768760" indent="-185436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ilhabe am Arbeitsleb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9480" y="455616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zu stell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95280" y="5334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rd der Antrag nicht gestellt, entfällt der Anspruch auf Krankengeld nach Ablauf der Fr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0" name="">
            <a:hlinkClick r:id="rId1"/>
          </p:cNvPr>
          <p:cNvSpPr/>
          <p:nvPr/>
        </p:nvSpPr>
        <p:spPr>
          <a:xfrm>
            <a:off x="68580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EE8-3FB7-4781-A8E8-5451A9BCE24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341316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3808440"/>
            <a:ext cx="5029200" cy="398880"/>
          </a:xfrm>
          <a:prstGeom prst="rect">
            <a:avLst/>
          </a:prstGeom>
          <a:solidFill>
            <a:srgbClr val="f1e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2274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476-FEF2-44CA-9E87-F662E8503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2057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51240" y="2666880"/>
            <a:ext cx="4267080" cy="763200"/>
            <a:chOff x="2451240" y="2666880"/>
            <a:chExt cx="4267080" cy="763200"/>
          </a:xfrm>
        </p:grpSpPr>
        <p:sp>
          <p:nvSpPr>
            <p:cNvPr id="340" name=""/>
            <p:cNvSpPr/>
            <p:nvPr/>
          </p:nvSpPr>
          <p:spPr>
            <a:xfrm>
              <a:off x="2971800" y="2666880"/>
              <a:ext cx="3352680" cy="7621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51240" y="2692440"/>
              <a:ext cx="426708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Regelwidriger Zust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v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9072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ör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3505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e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3505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e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4038480"/>
            <a:ext cx="4114800" cy="23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r di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wendigkeit ärztlicher Behandl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nd/od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zur Folge ha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B25-3525-4599-BE05-AA837ED6BA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286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raussetzungen des Krankengeldanspruch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34131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sicherungsverhältn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388476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rankh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4495680"/>
            <a:ext cx="3962160" cy="398880"/>
          </a:xfrm>
          <a:prstGeom prst="rect">
            <a:avLst/>
          </a:prstGeom>
          <a:solidFill>
            <a:srgbClr val="f1e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9E1-EE46-4FB2-84A9-F2ACA7FBB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Krankenge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2133720"/>
            <a:ext cx="48006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rbeitsunfähigke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iegt vor, wenn der Versichert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3124080"/>
            <a:ext cx="53341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ine zuletzt ausgeübte Tät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3962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ine ähnlich geartete Tätigke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9000" y="4648320"/>
            <a:ext cx="22860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icht meh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ur auf die Gefahr hin, seinen Zustand zu verschlimmer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richten ka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28D-99A5-4C94-839E-53E227B20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1:25:09Z</dcterms:created>
  <dc:creator>Roland Dahm</dc:creator>
  <dc:description/>
  <dc:language>en-US</dc:language>
  <cp:lastModifiedBy>h439090</cp:lastModifiedBy>
  <dcterms:modified xsi:type="dcterms:W3CDTF">2007-01-09T12:59:45Z</dcterms:modified>
  <cp:revision>66</cp:revision>
  <dc:subject/>
  <dc:title>Krankengeld</dc:title>
</cp:coreProperties>
</file>