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467AA-F2D5-4B9F-932C-EE1AC17B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D534-E888-41AA-8ADA-ADAA16B5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FABF1-BA70-4196-A877-828EFE70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5091-9283-4E67-AA22-3D9D3B6FD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CC72-218E-47C6-BEFC-C82AB14D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E60FA-F796-474D-8A6C-520FD30B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2C676-640F-4C3C-9B60-4E1F8C4F9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AB7B-C287-450E-A19A-71153E2F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E8FC-85BF-4891-A952-2D34A503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8CC5-6DC9-412A-9A48-08ECADE6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3DD5-3E7C-464A-A3A0-06747979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CCAA-136B-4F34-9FF5-E7CCC83EA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AD52-3563-4132-84C9-30F731C43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47920" y="2668680"/>
            <a:ext cx="6324480" cy="1381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ku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ordnungsausschlüsse nach Abschnitt G der AM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763120" cy="67474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 Verordnungseinschränkungen aufgrund §§ 2 Abs. 1 Satz 3, 12, 70 SGB V und zugelassene Ausnahm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 Für die nachstehend aufgeführten Therapieverfahren und Arzneimittel fehlen - von den erwähnten </a:t>
            </a:r>
            <a:r>
              <a:rPr b="0" lang="de-DE" sz="1400" spc="-1" strike="noStrike">
                <a:solidFill>
                  <a:srgbClr val="000000"/>
                </a:solidFill>
                <a:latin typeface="Arial"/>
              </a:rPr>
              <a:t>	</a:t>
            </a:r>
            <a:r>
              <a:rPr b="0" lang="de-DE" sz="1400" spc="-1" strike="noStrike">
                <a:solidFill>
                  <a:srgbClr val="000000"/>
                </a:solidFill>
                <a:latin typeface="Arial"/>
              </a:rPr>
              <a:t>Ausnahmen abgesehen - im allgemeinen die Voraussetzung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für die Notwendigkeit einer entsprechenden Arzneimitteltherapie</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für deren therapeutischen Nutz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der es kann das Behandlungsziel ebenso auch durch nicht medikamentöse Maßnahmen erreicht </a:t>
            </a:r>
            <a:r>
              <a:rPr b="0" lang="de-DE" sz="1400" spc="-1" strike="noStrike">
                <a:solidFill>
                  <a:srgbClr val="000000"/>
                </a:solidFill>
                <a:latin typeface="Arial"/>
              </a:rPr>
              <a:t>	</a:t>
            </a:r>
            <a:r>
              <a:rPr b="0" lang="de-DE" sz="1400" spc="-1" strike="noStrike">
                <a:solidFill>
                  <a:srgbClr val="000000"/>
                </a:solidFill>
                <a:latin typeface="Arial"/>
              </a:rPr>
              <a:t>werd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 Folgende Mittel dürfen - von den genannten Ausnahmen abgesehen - nicht verordnet werd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 Genussmittel, sämtliche Weine (auch medizinische Weine) und der Wirkung nach ähnliche, </a:t>
            </a:r>
            <a:r>
              <a:rPr b="0" lang="de-DE" sz="1400" spc="-1" strike="noStrike">
                <a:solidFill>
                  <a:srgbClr val="000000"/>
                </a:solidFill>
                <a:latin typeface="Arial"/>
              </a:rPr>
              <a:t>	</a:t>
            </a:r>
            <a:r>
              <a:rPr b="0" lang="de-DE" sz="1400" spc="-1" strike="noStrike">
                <a:solidFill>
                  <a:srgbClr val="000000"/>
                </a:solidFill>
                <a:latin typeface="Arial"/>
              </a:rPr>
              <a:t>Ethylalkohol als einen wesentlichen Bestandteil (mind. 5 Volumenprozent) enthaltende Mittel </a:t>
            </a:r>
            <a:r>
              <a:rPr b="0" lang="de-DE" sz="1400" spc="-1" strike="noStrike">
                <a:solidFill>
                  <a:srgbClr val="000000"/>
                </a:solidFill>
                <a:latin typeface="Arial"/>
              </a:rPr>
              <a:t>	</a:t>
            </a:r>
            <a:r>
              <a:rPr b="0" lang="de-DE" sz="1400" spc="-1" strike="noStrike">
                <a:solidFill>
                  <a:srgbClr val="000000"/>
                </a:solidFill>
                <a:latin typeface="Arial"/>
              </a:rPr>
              <a:t>(ausgenommen Tinkturen im Sinne des Deutschen Arzneibuches und tropfenweise einzunehmende </a:t>
            </a:r>
            <a:r>
              <a:rPr b="0" lang="de-DE" sz="1400" spc="-1" strike="noStrike">
                <a:solidFill>
                  <a:srgbClr val="000000"/>
                </a:solidFill>
                <a:latin typeface="Arial"/>
              </a:rPr>
              <a:t>	</a:t>
            </a:r>
            <a:r>
              <a:rPr b="0" lang="de-DE" sz="1400" spc="-1" strike="noStrike">
                <a:solidFill>
                  <a:srgbClr val="000000"/>
                </a:solidFill>
                <a:latin typeface="Arial"/>
              </a:rPr>
              <a:t>ethylalkoholhaltige Arzneimittel) sowie Mittel, bei denen die Gefahr besteht, dass sie wegen ihrer </a:t>
            </a:r>
            <a:r>
              <a:rPr b="0" lang="de-DE" sz="1400" spc="-1" strike="noStrike">
                <a:solidFill>
                  <a:srgbClr val="000000"/>
                </a:solidFill>
                <a:latin typeface="Arial"/>
              </a:rPr>
              <a:t>	</a:t>
            </a:r>
            <a:r>
              <a:rPr b="0" lang="de-DE" sz="1400" spc="-1" strike="noStrike">
                <a:solidFill>
                  <a:srgbClr val="000000"/>
                </a:solidFill>
                <a:latin typeface="Arial"/>
              </a:rPr>
              <a:t>wohlschmeckenden Zubereitung als Ersatz für Süßigkeiten genossen werd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 Mineral-, Heil- oder andere Wässer</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 Mittel, die auch zur Reinigung und Pflege oder Färbung der Haut, des Haares, der Nägel, der Zähne, </a:t>
            </a:r>
            <a:r>
              <a:rPr b="0" lang="de-DE" sz="1400" spc="-1" strike="noStrike">
                <a:solidFill>
                  <a:srgbClr val="000000"/>
                </a:solidFill>
                <a:latin typeface="Arial"/>
              </a:rPr>
              <a:t>	</a:t>
            </a:r>
            <a:r>
              <a:rPr b="0" lang="de-DE" sz="1400" spc="-1" strike="noStrike">
                <a:solidFill>
                  <a:srgbClr val="000000"/>
                </a:solidFill>
                <a:latin typeface="Arial"/>
              </a:rPr>
              <a:t>der Mundhöhle usw. dienen einschl. Medizinische Haut- und Haarwaschmittel sowie Medizinische </a:t>
            </a:r>
            <a:r>
              <a:rPr b="0" lang="de-DE" sz="1400" spc="-1" strike="noStrike">
                <a:solidFill>
                  <a:srgbClr val="000000"/>
                </a:solidFill>
                <a:latin typeface="Arial"/>
              </a:rPr>
              <a:t>	</a:t>
            </a:r>
            <a:r>
              <a:rPr b="0" lang="de-DE" sz="1400" spc="-1" strike="noStrike">
                <a:solidFill>
                  <a:srgbClr val="000000"/>
                </a:solidFill>
                <a:latin typeface="Arial"/>
              </a:rPr>
              <a:t>Haarwässer und kosmetische Mittel. Ausgenommen sind als Arzneimittel zugelassene Basiscremes, </a:t>
            </a:r>
            <a:r>
              <a:rPr b="0" lang="de-DE" sz="1400" spc="-1" strike="noStrike">
                <a:solidFill>
                  <a:srgbClr val="000000"/>
                </a:solidFill>
                <a:latin typeface="Arial"/>
              </a:rPr>
              <a:t>	</a:t>
            </a:r>
            <a:r>
              <a:rPr b="0" lang="de-DE" sz="1400" spc="-1" strike="noStrike">
                <a:solidFill>
                  <a:srgbClr val="000000"/>
                </a:solidFill>
                <a:latin typeface="Arial"/>
              </a:rPr>
              <a:t>Basissalben, Haut- und Kopfhautpflegemittel, auch Rezepturgrundlagen, soweit und solange sie Teil der </a:t>
            </a:r>
            <a:r>
              <a:rPr b="0" lang="de-DE" sz="1400" spc="-1" strike="noStrike">
                <a:solidFill>
                  <a:srgbClr val="000000"/>
                </a:solidFill>
                <a:latin typeface="Arial"/>
              </a:rPr>
              <a:t>	</a:t>
            </a:r>
            <a:r>
              <a:rPr b="0" lang="de-DE" sz="1400" spc="-1" strike="noStrike">
                <a:solidFill>
                  <a:srgbClr val="000000"/>
                </a:solidFill>
                <a:latin typeface="Arial"/>
              </a:rPr>
              <a:t>arzneilichen Therapie (Intervall-Therapie bei Neurodermitis/endogenem Ekzem, Psoriasis, Akne-</a:t>
            </a:r>
            <a:r>
              <a:rPr b="0" lang="de-DE" sz="1400" spc="-1" strike="noStrike">
                <a:solidFill>
                  <a:srgbClr val="000000"/>
                </a:solidFill>
                <a:latin typeface="Arial"/>
              </a:rPr>
              <a:t>	</a:t>
            </a:r>
            <a:r>
              <a:rPr b="0" lang="de-DE" sz="1400" spc="-1" strike="noStrike">
                <a:solidFill>
                  <a:srgbClr val="000000"/>
                </a:solidFill>
                <a:latin typeface="Arial"/>
              </a:rPr>
              <a:t>Schältherapie und Strahlentherapie) sind und nicht der Färbung der Haut und –anhangsgebilde sowie der </a:t>
            </a:r>
            <a:r>
              <a:rPr b="0" lang="de-DE" sz="1400" spc="-1" strike="noStrike">
                <a:solidFill>
                  <a:srgbClr val="000000"/>
                </a:solidFill>
                <a:latin typeface="Arial"/>
              </a:rPr>
              <a:t>	</a:t>
            </a:r>
            <a:r>
              <a:rPr b="0" lang="de-DE" sz="1400" spc="-1" strike="noStrike">
                <a:solidFill>
                  <a:srgbClr val="000000"/>
                </a:solidFill>
                <a:latin typeface="Arial"/>
              </a:rPr>
              <a:t>Vermittlung von Geruchsein-drücken dienen</a:t>
            </a:r>
            <a:endParaRPr b="0" lang="en-US" sz="1400" spc="-1" strike="noStrike">
              <a:solidFill>
                <a:srgbClr val="000000"/>
              </a:solidFill>
              <a:latin typeface="Times New Roman"/>
            </a:endParaRPr>
          </a:p>
          <a:p>
            <a:pPr>
              <a:lnSpc>
                <a:spcPct val="100000"/>
              </a:lnSpc>
              <a:spcBef>
                <a:spcPts val="876"/>
              </a:spcBef>
              <a:tabLst>
                <a:tab algn="l" pos="0"/>
                <a:tab algn="l" pos="28260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 Balneotherapeutika, ausgenommen als Arzneimittel zugelassene Balneotherapeutika bei  Neurodermi-</a:t>
            </a:r>
            <a:r>
              <a:rPr b="0" lang="de-DE" sz="1400" spc="-1" strike="noStrike">
                <a:solidFill>
                  <a:srgbClr val="000000"/>
                </a:solidFill>
                <a:latin typeface="Arial"/>
              </a:rPr>
              <a:t>	</a:t>
            </a:r>
            <a:r>
              <a:rPr b="0" lang="de-DE" sz="1400" spc="-1" strike="noStrike">
                <a:solidFill>
                  <a:srgbClr val="000000"/>
                </a:solidFill>
                <a:latin typeface="Arial"/>
              </a:rPr>
              <a:t>tis/endogenem Ekzem, Psoriasis und Erkrankungen des rheumatischen Formenkrei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304920"/>
            <a:ext cx="8839440" cy="64418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 Mittel, die der Veränderung der Körperform (z.B. Entfettungscreme, Busencreme) dienen soll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 Mittel zur Behandlung der erektilen Dysfunktion und Mittel, die der Anreizung und Steigerung der sexuellen Potenz dien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 Mittel zur Raucherentwöhn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 Saftzubereitungen für Erwachsene, von in der Person des Patienten begründeten Ausnahmen abgeseh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 Würz- und Süßstoffe, Obstsäfte, Lebensmittel im Sinne des § 1 des Lebensmittel- und Bedarfsgegen-ständegesetzes, Krankenkost- und Diätpräpa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s Ausnahmen sind nur zulässig Aminosäuremischungen und Eiweißhydrolysate bei angeborenen Enzymmangelkrankheiten, Elementardiäten (Gemische von Nahrungsgrundbausteinen, Vitaminen und Spurenelementen) bei Morbus Crohn, Kurzdarmsyndrom, stark Untergewichtigen mit Mukoviszidose, bei Patienten mit chronisch terminaler Niereninsuffizienz unter eiweißarmer Ernährung und bei Patienten mit konsumierenden Erkrankungen sowie medizinisch indizierter Sondennahr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 Abmagerungsmittel und Appetitzügl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 Anabolika, außer bei neoplastischen Erkrankung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 Stimulantien (z.B. Psychoanaleptika, Psychoenergetika und Leistungsstimulantien), ausgenommen bei Narkolepsie und schwerer Zerebralsklerose sowie beim hyperkinetischen Syndrom und bei der so genannten minimalen zerebralen Dysfunktion vorpubertärer Schulki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 so genannte Zellulartherapeutika und Organhydrolys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 so genannte Geriatrika und so genannte Arteriosklerosemitt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 Roborantien, Tonika und appetitanregende Mitt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 Insekten-Abschreckmitt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 Fixe Kombinationen aus Vitaminen und anderen Stoffen, ausgenommen Vitamin D-Fluorid-Kombinationen zur Anwendung bei Kindern und zur Osteoporoseprophylax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228600"/>
            <a:ext cx="8534520" cy="60156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r) Arzneimittel, welche nach Art. 1 § 11 Abs. 3 des Gesetzes zur Neuordnung des </a:t>
            </a:r>
            <a:r>
              <a:rPr b="0" lang="de-DE" sz="1400" spc="-1" strike="noStrike">
                <a:solidFill>
                  <a:srgbClr val="000000"/>
                </a:solidFill>
                <a:latin typeface="Arial"/>
              </a:rPr>
              <a:t>	</a:t>
            </a:r>
            <a:r>
              <a:rPr b="0" lang="de-DE" sz="1400" spc="-1" strike="noStrike">
                <a:solidFill>
                  <a:srgbClr val="000000"/>
                </a:solidFill>
                <a:latin typeface="Arial"/>
              </a:rPr>
              <a:t>Arzneimittelrechts nur mit einem oder mehreren der folgenden Hinweise:</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Traditionell angewendet:</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a) zur Stärkung oder Kräftigung</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b) zur Besserung des Befindens</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c) zur Unterstützung der Organfunktion</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 zur Vorbeugung</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e) als mild wirkendes Arzneimittel"</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in den Verkehr gebracht werden.</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ie Verordnung der Arzneimittel in den zugelassenen Fällen ist in der ärztlichen Dokumentation zu </a:t>
            </a:r>
            <a:r>
              <a:rPr b="0" lang="de-DE" sz="1400" spc="-1" strike="noStrike">
                <a:solidFill>
                  <a:srgbClr val="000000"/>
                </a:solidFill>
                <a:latin typeface="Arial"/>
              </a:rPr>
              <a:t>	</a:t>
            </a:r>
            <a:r>
              <a:rPr b="0" lang="de-DE" sz="1400" spc="-1" strike="noStrike">
                <a:solidFill>
                  <a:srgbClr val="000000"/>
                </a:solidFill>
                <a:latin typeface="Arial"/>
              </a:rPr>
              <a:t>begründen.</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2 Folgende Arzneimittel dürfen nur verordnet werden unter der Voraussetzung, dass zuvor allgemeine nicht medikamentöse Maßnahmen genutzt wurden (z.B. diätetischer oder physikalischer Art, Lebens-führung, körperliches Training etc.), hierdurch aber das Behandlungsziel nicht erreicht werden konnte und eine medikamentöse Behandlung mit diesen Arzneimitteln zusätzlich erforderlich ist:</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 Carminativa, Amara, Acida, ausgenommen gasbindende Mittel vor diagnostischen Maßnahmen</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 Gallenwegs- und Lebertherapeutika, ausgenommen Arzneimittel zur Auflösung von Cholesterin-</a:t>
            </a:r>
            <a:r>
              <a:rPr b="0" lang="de-DE" sz="1400" spc="-1" strike="noStrike">
                <a:solidFill>
                  <a:srgbClr val="000000"/>
                </a:solidFill>
                <a:latin typeface="Arial"/>
              </a:rPr>
              <a:t>	</a:t>
            </a:r>
            <a:r>
              <a:rPr b="0" lang="de-DE" sz="1400" spc="-1" strike="noStrike">
                <a:solidFill>
                  <a:srgbClr val="000000"/>
                </a:solidFill>
                <a:latin typeface="Arial"/>
              </a:rPr>
              <a:t>gallensteinen, zur Behandlung bei Präcoma/Coma hepaticum und bei hepatischer Encephalopathie</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 Mittel zur Regulation der Darmflora einschließlich Stoffwechselprodukte, Zellen, Zellteile und </a:t>
            </a:r>
            <a:r>
              <a:rPr b="0" lang="de-DE" sz="1400" spc="-1" strike="noStrike">
                <a:solidFill>
                  <a:srgbClr val="000000"/>
                </a:solidFill>
                <a:latin typeface="Arial"/>
              </a:rPr>
              <a:t>	</a:t>
            </a:r>
            <a:r>
              <a:rPr b="0" lang="de-DE" sz="1400" spc="-1" strike="noStrike">
                <a:solidFill>
                  <a:srgbClr val="000000"/>
                </a:solidFill>
                <a:latin typeface="Arial"/>
              </a:rPr>
              <a:t>Hydrolysate von bakteriellen Mikroorganismen enthaltende Präparate</a:t>
            </a:r>
            <a:endParaRPr b="0" lang="en-US" sz="1400" spc="-1" strike="noStrike">
              <a:solidFill>
                <a:srgbClr val="000000"/>
              </a:solidFill>
              <a:latin typeface="Times New Roman"/>
            </a:endParaRPr>
          </a:p>
          <a:p>
            <a:pPr>
              <a:lnSpc>
                <a:spcPct val="100000"/>
              </a:lnSpc>
              <a:spcBef>
                <a:spcPts val="87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 Antihypotonika zur oralen Anwendu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80880"/>
            <a:ext cx="8458200" cy="54968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 Arzneimittel zur Behandlung dysmenorrhoischer und klimakterischer Beschwerden, ausgenomm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hormonelle Behandl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rostaglandin-Synthetasehemmer als Monopräpa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opische Sexualhorm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 sog. Umstimmungsmittel und Immunstimulanti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 Mineralstoffpräparate zur oralen Anwendung, ausgenomm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Calcium-Verbindungen als Monopräparate bei dokumentierter Hypokalziämi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und bei Osteoporose (auch kombiniert mit Fluori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Fluorid zur Kariesprophylaxe des Kindes und bei Osteoporo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Zink-Verbindungen als Monopräparate bei nachgewiesenem Zinkmang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bei Hämodialysebehandl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gepufferte und ungepufferte Kaliumverbindungen als Monopräparate bei </a:t>
            </a:r>
            <a:r>
              <a:rPr b="0" lang="de-DE" sz="1400" spc="-1" strike="noStrike">
                <a:solidFill>
                  <a:srgbClr val="000000"/>
                </a:solidFill>
                <a:latin typeface="SymbolMT"/>
              </a:rPr>
              <a:t> </a:t>
            </a:r>
            <a:r>
              <a:rPr b="0" lang="de-DE" sz="1400" spc="-1" strike="noStrike">
                <a:solidFill>
                  <a:srgbClr val="000000"/>
                </a:solidFill>
                <a:latin typeface="Arial"/>
              </a:rPr>
              <a:t>Hypokaliämi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Magnesium- und Magnesium-Kalium-Verbindungen zur kardialen Therapi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Magnesiumverbindungen als Monopräparate bei neuromuskulären Störung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Elektrolytsubstitution bei schwerer Diarrhoe, bei Nierenerkrankung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u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zum Ausgleich des Säure-Basen-Haushal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380880"/>
            <a:ext cx="8534160" cy="6210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h) Vitaminpräparate, ausgenommen bei nachgewiesenem Vitaminmangel jeglicher Ursache, der </a:t>
            </a:r>
            <a:r>
              <a:rPr b="0" lang="de-DE" sz="1400" spc="-1" strike="noStrike">
                <a:solidFill>
                  <a:srgbClr val="000000"/>
                </a:solidFill>
                <a:latin typeface="Arial"/>
              </a:rPr>
              <a:t>	</a:t>
            </a:r>
            <a:r>
              <a:rPr b="0" lang="de-DE" sz="1400" spc="-1" strike="noStrike">
                <a:solidFill>
                  <a:srgbClr val="000000"/>
                </a:solidFill>
                <a:latin typeface="Arial"/>
              </a:rPr>
              <a:t>durch eine entsprechende Ernährung nicht behoben werden kann. Ausgenommen sind weiterhin die </a:t>
            </a:r>
            <a:r>
              <a:rPr b="0" lang="de-DE" sz="1400" spc="-1" strike="noStrike">
                <a:solidFill>
                  <a:srgbClr val="000000"/>
                </a:solidFill>
                <a:latin typeface="Arial"/>
              </a:rPr>
              <a:t>	</a:t>
            </a:r>
            <a:r>
              <a:rPr b="0" lang="de-DE" sz="1400" spc="-1" strike="noStrike">
                <a:solidFill>
                  <a:srgbClr val="000000"/>
                </a:solidFill>
                <a:latin typeface="Arial"/>
              </a:rPr>
              <a:t>prophylaktische Gabe von Vitamin D zur Prävention der Rachitis des Kindes oder der renalen </a:t>
            </a:r>
            <a:r>
              <a:rPr b="0" lang="de-DE" sz="1400" spc="-1" strike="noStrike">
                <a:solidFill>
                  <a:srgbClr val="000000"/>
                </a:solidFill>
                <a:latin typeface="Arial"/>
              </a:rPr>
              <a:t>	</a:t>
            </a:r>
            <a:r>
              <a:rPr b="0" lang="de-DE" sz="1400" spc="-1" strike="noStrike">
                <a:solidFill>
                  <a:srgbClr val="000000"/>
                </a:solidFill>
                <a:latin typeface="Arial"/>
              </a:rPr>
              <a:t>Osteopathie, die Vitamin K Prophylaxe bei Neugeborenen, die Gabe von Vitaminen bei </a:t>
            </a:r>
            <a:r>
              <a:rPr b="0" lang="de-DE" sz="1400" spc="-1" strike="noStrike">
                <a:solidFill>
                  <a:srgbClr val="000000"/>
                </a:solidFill>
                <a:latin typeface="Arial"/>
              </a:rPr>
              <a:t>	</a:t>
            </a:r>
            <a:r>
              <a:rPr b="0" lang="de-DE" sz="1400" spc="-1" strike="noStrike">
                <a:solidFill>
                  <a:srgbClr val="000000"/>
                </a:solidFill>
                <a:latin typeface="Arial"/>
              </a:rPr>
              <a:t>therapeutisch verursachtem Mehrbedarf sowie eine parenterale prophylaktische Anwendung von </a:t>
            </a:r>
            <a:r>
              <a:rPr b="0" lang="de-DE" sz="1400" spc="-1" strike="noStrike">
                <a:solidFill>
                  <a:srgbClr val="000000"/>
                </a:solidFill>
                <a:latin typeface="Arial"/>
              </a:rPr>
              <a:t>	</a:t>
            </a:r>
            <a:r>
              <a:rPr b="0" lang="de-DE" sz="1400" spc="-1" strike="noStrike">
                <a:solidFill>
                  <a:srgbClr val="000000"/>
                </a:solidFill>
                <a:latin typeface="Arial"/>
              </a:rPr>
              <a:t>Vitaminen, insbesondere von Vitamin B12 oder Folsäure und den fettlöslichen Vitaminen, bei </a:t>
            </a:r>
            <a:r>
              <a:rPr b="0" lang="de-DE" sz="1400" spc="-1" strike="noStrike">
                <a:solidFill>
                  <a:srgbClr val="000000"/>
                </a:solidFill>
                <a:latin typeface="Arial"/>
              </a:rPr>
              <a:t>	</a:t>
            </a:r>
            <a:r>
              <a:rPr b="0" lang="de-DE" sz="1400" spc="-1" strike="noStrike">
                <a:solidFill>
                  <a:srgbClr val="000000"/>
                </a:solidFill>
                <a:latin typeface="Arial"/>
              </a:rPr>
              <a:t>irreversiblem Malassimilationssyndrom jeglicher Ursache, bei parenteraler Ernährung und </a:t>
            </a:r>
            <a:r>
              <a:rPr b="0" lang="de-DE" sz="1400" spc="-1" strike="noStrike">
                <a:solidFill>
                  <a:srgbClr val="000000"/>
                </a:solidFill>
                <a:latin typeface="Arial"/>
              </a:rPr>
              <a:t>	</a:t>
            </a:r>
            <a:r>
              <a:rPr b="0" lang="de-DE" sz="1400" spc="-1" strike="noStrike">
                <a:solidFill>
                  <a:srgbClr val="000000"/>
                </a:solidFill>
                <a:latin typeface="Arial"/>
              </a:rPr>
              <a:t>Sondenernährung sowie bei länger dauernder Infusionstherapie und ferner die niedrigdosierte Gabe </a:t>
            </a:r>
            <a:r>
              <a:rPr b="0" lang="de-DE" sz="1400" spc="-1" strike="noStrike">
                <a:solidFill>
                  <a:srgbClr val="000000"/>
                </a:solidFill>
                <a:latin typeface="Arial"/>
              </a:rPr>
              <a:t>	</a:t>
            </a:r>
            <a:r>
              <a:rPr b="0" lang="de-DE" sz="1400" spc="-1" strike="noStrike">
                <a:solidFill>
                  <a:srgbClr val="000000"/>
                </a:solidFill>
                <a:latin typeface="Arial"/>
              </a:rPr>
              <a:t>von Vitamin D bei der Behandlung der Osteoporose mit Calciumpräparaten.</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i) Fixe Kombinationen von</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Antacida</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Muskelrelaxantien</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Antiphlogistika/Antirheumatika</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it anderen Wirkstoffen</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j) Venentherapeutika zur topischen und systemischen Anwendung bei varicösem Syndrom und </a:t>
            </a:r>
            <a:r>
              <a:rPr b="0" lang="de-DE" sz="1400" spc="-1" strike="noStrike">
                <a:solidFill>
                  <a:srgbClr val="000000"/>
                </a:solidFill>
                <a:latin typeface="Arial"/>
              </a:rPr>
              <a:t>	</a:t>
            </a:r>
            <a:r>
              <a:rPr b="0" lang="de-DE" sz="1400" spc="-1" strike="noStrike">
                <a:solidFill>
                  <a:srgbClr val="000000"/>
                </a:solidFill>
                <a:latin typeface="Arial"/>
              </a:rPr>
              <a:t>chronisch venöser Insuffizienz, ausgenommen Verödungsmittel</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k) Arzneimittel zum Schutz der Gelenkfunktion bei Abbauerscheinungen des Knorpels zur lokalen </a:t>
            </a:r>
            <a:r>
              <a:rPr b="0" lang="de-DE" sz="1400" spc="-1" strike="noStrike">
                <a:solidFill>
                  <a:srgbClr val="000000"/>
                </a:solidFill>
                <a:latin typeface="Arial"/>
              </a:rPr>
              <a:t>	</a:t>
            </a:r>
            <a:r>
              <a:rPr b="0" lang="de-DE" sz="1400" spc="-1" strike="noStrike">
                <a:solidFill>
                  <a:srgbClr val="000000"/>
                </a:solidFill>
                <a:latin typeface="Arial"/>
              </a:rPr>
              <a:t>und systemischen Anwendung (sog. Chondroprotektiva und Antiarthrotika).</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1. Bei der Behandlung von Stoffwechselerkrankungen wie Diabetes mellitus Typ II, Hyperlipidämie und Gicht sind die Hinweise nach den Nrn. 6 und 10 besonders zu berücksichtigen, da hier eine  medika-mentöse Behandlung ohne vorausgegangene und/oder gleichzeitige allgemeine Maßnahmen insbeson-dere diätetischer Art nicht gerechtfertigt ist.</a:t>
            </a:r>
            <a:endParaRPr b="0" lang="en-US" sz="1400" spc="-1" strike="noStrike">
              <a:solidFill>
                <a:srgbClr val="000000"/>
              </a:solidFill>
              <a:latin typeface="Times New Roman"/>
            </a:endParaRPr>
          </a:p>
          <a:p>
            <a:pPr>
              <a:lnSpc>
                <a:spcPct val="100000"/>
              </a:lnSpc>
              <a:spcBef>
                <a:spcPts val="87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2. Die langfristige Verordnung (über mehr als 2 Monate) von Tranquilantien und Hypnotika bedarf strenger Indikationsstellung und der Begründung in der ärztlichen Dokument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533520"/>
            <a:ext cx="8458200" cy="2994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3. Impfstoffe und/oder Immunglobulin-Präparate dürfen insbesonde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bei Verletzten (z.B. Tetanus, Tollwu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MT"/>
              </a:rPr>
              <a:t>	</a:t>
            </a:r>
            <a:r>
              <a:rPr b="0" lang="de-DE" sz="1400" spc="-1" strike="noStrike">
                <a:solidFill>
                  <a:srgbClr val="000000"/>
                </a:solidFill>
                <a:latin typeface="SymbolMT"/>
              </a:rPr>
              <a:t>− </a:t>
            </a:r>
            <a:r>
              <a:rPr b="0" lang="de-DE" sz="1400" spc="-1" strike="noStrike">
                <a:solidFill>
                  <a:srgbClr val="000000"/>
                </a:solidFill>
                <a:latin typeface="Arial"/>
              </a:rPr>
              <a:t>bei immunsupprimierten Patienten und bei Patienten mit Immundefek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Symbol"/>
                <a:ea typeface="Symbol"/>
              </a:rPr>
              <a:t></a:t>
            </a:r>
            <a:r>
              <a:rPr b="0" lang="de-DE" sz="1400" spc="-1" strike="noStrike">
                <a:solidFill>
                  <a:srgbClr val="000000"/>
                </a:solidFill>
                <a:latin typeface="Arial"/>
              </a:rPr>
              <a:t> </a:t>
            </a:r>
            <a:r>
              <a:rPr b="0" lang="de-DE" sz="1400" spc="-1" strike="noStrike">
                <a:solidFill>
                  <a:srgbClr val="000000"/>
                </a:solidFill>
                <a:latin typeface="Arial"/>
              </a:rPr>
              <a:t>bei Hepatitiskontaktperson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Symbol"/>
                <a:ea typeface="Symbol"/>
              </a:rPr>
              <a:t></a:t>
            </a:r>
            <a:r>
              <a:rPr b="0" lang="de-DE" sz="1400" spc="-1" strike="noStrike">
                <a:solidFill>
                  <a:srgbClr val="000000"/>
                </a:solidFill>
                <a:latin typeface="Arial"/>
              </a:rPr>
              <a:t>bei Röteln-, Varizellen- oder Zostervirenexposition Schwangerer, Frühgeborener und Ki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wie nach Exposition mit einem infektiösen bzw. kontaminierten Material verordnet werden, wenn nach wissenschaftlicher Erkenntnis hierdurch ein Krankheitsausbruch mit großer Wahrscheinlichkeit verhindert werden kann. Im übrigen ist eine Verordnung für vorbeugende Schutzimpfungen und als vorbeugende Serumgabe nur nach Maßgabe der jeweiligen Satzungsbestimmungen der Krankenkasse möglich.</a:t>
            </a:r>
            <a:endParaRPr b="0" lang="en-US" sz="1400" spc="-1" strike="noStrike">
              <a:solidFill>
                <a:srgbClr val="000000"/>
              </a:solidFill>
              <a:latin typeface="Times New Roman"/>
            </a:endParaRPr>
          </a:p>
        </p:txBody>
      </p:sp>
      <p:sp>
        <p:nvSpPr>
          <p:cNvPr id="48" name="">
            <a:hlinkClick r:id="rId1"/>
          </p:cNvPr>
          <p:cNvSpPr/>
          <p:nvPr/>
        </p:nvSpPr>
        <p:spPr>
          <a:xfrm>
            <a:off x="6477120" y="53341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3794" y="12962"/>
                </a:moveTo>
                <a:lnTo>
                  <a:pt x="17806" y="5956"/>
                </a:lnTo>
                <a:lnTo>
                  <a:pt x="17806" y="1996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2:58:46Z</dcterms:created>
  <dc:creator>h439090</dc:creator>
  <dc:description/>
  <dc:language>en-US</dc:language>
  <cp:lastModifiedBy>h439090</cp:lastModifiedBy>
  <dcterms:modified xsi:type="dcterms:W3CDTF">2008-04-07T12:31:07Z</dcterms:modified>
  <cp:revision>4</cp:revision>
  <dc:subject/>
  <dc:title>PowerPoint-Präsentation</dc:title>
</cp:coreProperties>
</file>