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6F8-1895-4367-9C50-B83D87AB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C0E-2BE5-45B4-814D-8583AE6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D75-7714-449A-AB28-04C76CD2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7FD-9D10-4D71-AC2D-15710C04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AD5-C670-431E-8FA1-E6FA06D1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DCE-18A0-4993-BFF3-ED578946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33A-3202-416C-B13B-2034D7F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591-56E3-40A2-9A91-422B4B24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455-2892-4570-80B4-904CBD3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15F-FF27-4A22-86F6-7078142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8DC-D4F1-40FB-BC1C-9ECA342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383-6209-4375-960F-B15A426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96E-007B-44B2-9C3E-B37476B4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as%20GKV-Leistungsrecht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108240"/>
            <a:ext cx="58672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Podologische Thera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98960" y="1044720"/>
            <a:ext cx="4650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,Bold"/>
              </a:rPr>
              <a:t>Podologische Thera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1960" y="1828800"/>
            <a:ext cx="7010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hautabt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960" y="2286000"/>
            <a:ext cx="7010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elbe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702468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dologische Komplexbehandlung (Hornhautabtragung und Nagelbearbei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6248520" y="48769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52:38Z</dcterms:created>
  <dc:creator>h439090</dc:creator>
  <dc:description/>
  <dc:language>en-US</dc:language>
  <cp:lastModifiedBy>h439090</cp:lastModifiedBy>
  <dcterms:modified xsi:type="dcterms:W3CDTF">2008-04-07T12:50:54Z</dcterms:modified>
  <cp:revision>5</cp:revision>
  <dc:subject/>
  <dc:title>PowerPoint-Präsentation</dc:title>
</cp:coreProperties>
</file>