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3F331-5185-4F91-9D53-CDA8C5949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1827F-AC21-4B7C-B5BA-82B50DDF6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127A9-DA2F-485C-9BCD-313C3475D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455B7-56E2-4F23-94C4-E433A64D9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B61F4-A4BE-4075-8F15-E2ED9B103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B1FD6-D167-430B-944D-595BF4CBE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A3ED7-8229-4DB8-B888-36F127FAD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C53CA-6422-4C64-B314-4688114F7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A8E8C-BFAB-4E7C-B01C-37684A1C9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7831-6BC5-4C18-BAAF-6D6985E62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52521-0E7F-49CB-88AD-4F6C37FE8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EDF24-03F9-4656-90C5-02F5F4C13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1BDA-DD7B-4D2D-A714-E9BCF3AD2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Das%20GKV-Leistungsrech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38360" y="3078000"/>
            <a:ext cx="586728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gopädi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92320" y="457200"/>
            <a:ext cx="722628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Bold"/>
              </a:rPr>
              <a:t>Stimm-, Sprech- und Sprachtherapie</a:t>
            </a:r>
            <a:endParaRPr b="0" lang="en-US" sz="3200" spc="-1" strike="noStrike">
              <a:solidFill>
                <a:srgbClr val="000000"/>
              </a:solidFill>
              <a:latin typeface="Times New Roman"/>
            </a:endParaRPr>
          </a:p>
        </p:txBody>
      </p:sp>
      <p:sp>
        <p:nvSpPr>
          <p:cNvPr id="43" name=""/>
          <p:cNvSpPr/>
          <p:nvPr/>
        </p:nvSpPr>
        <p:spPr>
          <a:xfrm>
            <a:off x="645840" y="1143000"/>
            <a:ext cx="2532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387360" indent="-38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mtherapie</a:t>
            </a:r>
            <a:endParaRPr b="0" lang="en-US" sz="2400" spc="-1" strike="noStrike">
              <a:solidFill>
                <a:srgbClr val="000000"/>
              </a:solidFill>
              <a:latin typeface="Times New Roman"/>
            </a:endParaRPr>
          </a:p>
        </p:txBody>
      </p:sp>
      <p:sp>
        <p:nvSpPr>
          <p:cNvPr id="44" name=""/>
          <p:cNvSpPr/>
          <p:nvPr/>
        </p:nvSpPr>
        <p:spPr>
          <a:xfrm>
            <a:off x="657360" y="1738440"/>
            <a:ext cx="7696080" cy="37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timmtherapie dient der Wiederherstellung, Besserung und Erhaltung der stimmlichen Kommunikationsfähigkeit und des Schluckaktes sowie der Vermittlung von Kompensationsmechanismen (z. B. Bildung einer Ersatzstimme, Üben des Gebrauchs elektronischer Sprechhilfen). Sie umfasst insbesondere Maßnahmen zur Regulation v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mu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hon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rtikul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chluckvorgän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71000" y="228600"/>
            <a:ext cx="22456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chtherapie</a:t>
            </a:r>
            <a:endParaRPr b="0" lang="en-US" sz="2400" spc="-1" strike="noStrike">
              <a:solidFill>
                <a:srgbClr val="000000"/>
              </a:solidFill>
              <a:latin typeface="Times New Roman"/>
            </a:endParaRPr>
          </a:p>
        </p:txBody>
      </p:sp>
      <p:sp>
        <p:nvSpPr>
          <p:cNvPr id="46" name=""/>
          <p:cNvSpPr/>
          <p:nvPr/>
        </p:nvSpPr>
        <p:spPr>
          <a:xfrm>
            <a:off x="152280" y="838080"/>
            <a:ext cx="8839440" cy="5950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Sprechtherapie dient der Wiederherstellung, Besserung und dem Erhalt der koordinierten motorischen und sensorischen Sprechleistung sowie des Schluckvorgang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umfasst insbesondere Maßnahmen zur gezielten Anbahnung und Förderu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der Artikul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der Sprechgeschwindigke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der koordinativen Leistu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von motorischer und sensorischer Sprachreg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des Sprechappara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der Atmu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der Stim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des Schluckvorgang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gf. unter Einbeziehung des sozialen Umfeldes in das Therapiekonzep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32920" y="152280"/>
            <a:ext cx="22456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achtherapie</a:t>
            </a:r>
            <a:endParaRPr b="0" lang="en-US" sz="2400" spc="-1" strike="noStrike">
              <a:solidFill>
                <a:srgbClr val="000000"/>
              </a:solidFill>
              <a:latin typeface="Times New Roman"/>
            </a:endParaRPr>
          </a:p>
        </p:txBody>
      </p:sp>
      <p:sp>
        <p:nvSpPr>
          <p:cNvPr id="48" name=""/>
          <p:cNvSpPr/>
          <p:nvPr/>
        </p:nvSpPr>
        <p:spPr>
          <a:xfrm>
            <a:off x="228600" y="762120"/>
            <a:ext cx="8686800" cy="56289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prachtherapie dient der Wiederherstellung, Besserung und dem Erhalt der sprachlichen und kommunikativen Fähigkeiten sowie des Schluckvorganges. Sie umfasst insbesondere Maßnahmen zum/zu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bahnung sprachlicher Äußerung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ufbau des Sprachverständniss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usbildung und Erhalt der Lautsprache zur sprachlichen Kommunika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rtikulationsverbesserung bzw. Schaffung nonverbaler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Kommunikationsmöglichkeit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Normalisierung bzw. Verbesserung der Laut- und Lautverbindungsbild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Verbesserung, Normalisierung der auditiven Wahrnehmungsfähigkei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ufbau von Kommunikationsstrategi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Normalisierung des Sprachklang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eseitigung der Dysfunktionen der Kehlkopf- und Zungenmuskulatu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esserung und Erhalt des Schluckvorgan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 Sprachtherapie darf bei einer auditiven Wahrnehmungsstörung mit Krank-heitswert nur aufgrund neuropsychologischer Untersuchung und zentraler Hördiagnostik mit entsprechender Dokumentation verordnet werden.</a:t>
            </a:r>
            <a:endParaRPr b="0" lang="en-US" sz="1600" spc="-1" strike="noStrike">
              <a:solidFill>
                <a:srgbClr val="000000"/>
              </a:solidFill>
              <a:latin typeface="Times New Roman"/>
            </a:endParaRPr>
          </a:p>
        </p:txBody>
      </p:sp>
      <p:sp>
        <p:nvSpPr>
          <p:cNvPr id="49" name="">
            <a:hlinkClick r:id="rId1"/>
          </p:cNvPr>
          <p:cNvSpPr/>
          <p:nvPr/>
        </p:nvSpPr>
        <p:spPr>
          <a:xfrm>
            <a:off x="6781680" y="636264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17:02:22Z</dcterms:created>
  <dc:creator>h439090</dc:creator>
  <dc:description/>
  <dc:language>en-US</dc:language>
  <cp:lastModifiedBy>h439090</cp:lastModifiedBy>
  <dcterms:modified xsi:type="dcterms:W3CDTF">2008-04-07T12:52:02Z</dcterms:modified>
  <cp:revision>8</cp:revision>
  <dc:subject/>
  <dc:title>PowerPoint-Präsentation</dc:title>
</cp:coreProperties>
</file>