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CEBC3-38B0-4362-A835-A5AF9CD0D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87147-9596-4665-A974-8A7D77DB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D0ACC-89CD-495C-989C-0A85588D7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5A77B-A6A4-492E-A535-7452AAC29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118FD-6778-4DF5-A0EE-6AB9EF03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D6752-AE25-4BD1-B003-A04F56301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BD327-CA64-4F1F-8C90-48F5243C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C4868-AFD9-411F-BEF3-9197C5D9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0E4C-5387-4AB3-BCD6-758799911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FED3-D2CC-4473-8DA9-E9B898420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079B-4906-418C-B33F-E5661C14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3287-C96C-49EF-8CBE-A7474AFF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CADD-113F-4B67-A21F-EF3BF82D0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file:///FILENAME%3Fxid=139508,2&amp;CGI_LINK=Psych-PV%20&#167;%20...1#jurabs_2" TargetMode="External"/><Relationship Id="rId2" Type="http://schemas.openxmlformats.org/officeDocument/2006/relationships/hyperlink" Target="file:///FILENAME%3Fxid=139500,18&amp;CGI_LINK=KHG%20&#167;%20..16"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kurs Krankenhausvergütu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990720"/>
            <a:ext cx="8458200" cy="7159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MS Shell Dlg"/>
              </a:rPr>
              <a:t>§ 17b KHG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MS Shell Dlg"/>
              </a:rPr>
              <a:t>Einführung eines pauschalierenden Entgeltsystem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S Shell Dlg"/>
              </a:rPr>
              <a:t>(1) Für die Vergütung der allgemeinen Krankenhausleistungen ist ein durchgängiges, leistungsorientiertes und pauschalierendes Vergütungssystem einzuführen; dies gilt nicht für die Leistungen der in </a:t>
            </a:r>
            <a:r>
              <a:rPr b="0" lang="de-DE" sz="2400" spc="-1" strike="noStrike" u="sng">
                <a:solidFill>
                  <a:srgbClr val="ccccff"/>
                </a:solidFill>
                <a:uFillTx/>
                <a:latin typeface="MS Shell Dlg"/>
                <a:hlinkClick r:id="rId1"/>
              </a:rPr>
              <a:t>§ 1 Abs. 2 der Psychiatrie-Personalverordnung </a:t>
            </a:r>
            <a:r>
              <a:rPr b="0" lang="de-DE" sz="2400" spc="-1" strike="noStrike">
                <a:solidFill>
                  <a:srgbClr val="000000"/>
                </a:solidFill>
                <a:latin typeface="MS Shell Dlg"/>
              </a:rPr>
              <a:t>genannten Einrichtungen und der Einrichtungen für Psychosomatik und Psychotherapeutische Medizin, soweit in der Verordnung nach </a:t>
            </a:r>
            <a:r>
              <a:rPr b="0" lang="de-DE" sz="2400" spc="-1" strike="noStrike" u="sng">
                <a:solidFill>
                  <a:srgbClr val="ccccff"/>
                </a:solidFill>
                <a:uFillTx/>
                <a:latin typeface="MS Shell Dlg"/>
                <a:hlinkClick r:id="rId2"/>
              </a:rPr>
              <a:t>§ 16 Satz 1 Nr. 1 </a:t>
            </a:r>
            <a:r>
              <a:rPr b="0" lang="de-DE" sz="2400" spc="-1" strike="noStrike">
                <a:solidFill>
                  <a:srgbClr val="000000"/>
                </a:solidFill>
                <a:latin typeface="MS Shell Dlg"/>
              </a:rPr>
              <a:t>nichts Abweichendes bestimmt wird. Das Vergütungssystem hat Komplexitäten und Comorbiditäten abzubilden; sein Differenzierungsgrad soll praktikabel sein. Mit den Entgelten nach Satz 1 werden die allgemeinen vollstationären und teilstationären Krankenhausleistungen für einen Behandlungsfall vergütet. </a:t>
            </a:r>
            <a:endParaRPr b="0" lang="en-US" sz="2400" spc="-1" strike="noStrike">
              <a:solidFill>
                <a:srgbClr val="000000"/>
              </a:solidFill>
              <a:latin typeface="Times New Roman"/>
            </a:endParaRPr>
          </a:p>
        </p:txBody>
      </p:sp>
      <p:sp>
        <p:nvSpPr>
          <p:cNvPr id="43" name=""/>
          <p:cNvSpPr/>
          <p:nvPr/>
        </p:nvSpPr>
        <p:spPr>
          <a:xfrm>
            <a:off x="1981080" y="3049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züge des DRG-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838080"/>
            <a:ext cx="8229600" cy="558036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S Shell Dlg"/>
              </a:rPr>
              <a:t>(2) Die Spitzenverbände der Krankenkassen und der Verband der privaten Krankenversicherung gemeinsam vereinbaren entsprechend den Vorgaben der Absätze 1 und 3 mit der Deutschen Krankenhausgesellschaft ein Vergütungssystem, das sich an einem international bereits eingesetzten Vergütungssystem auf der Grundlage der Diagnosis Related Groups (DRG) orientiert, seine jährliche Weiterentwicklung und Anpassung, insbesondere an medizinische Entwicklungen, Kostenentwicklungen, Verweildauerverkürzungen und Leistungsverlagerungen zu und von anderen Versorgungsbereichen, und die Abrechnungsbestimmungen, soweit diese nicht im Krankenhausentgeltgesetz vorgegeben werden.</a:t>
            </a:r>
            <a:endParaRPr b="0" lang="en-US" sz="2400" spc="-1" strike="noStrike">
              <a:solidFill>
                <a:srgbClr val="000000"/>
              </a:solidFill>
              <a:latin typeface="Times New Roman"/>
            </a:endParaRPr>
          </a:p>
        </p:txBody>
      </p:sp>
      <p:sp>
        <p:nvSpPr>
          <p:cNvPr id="45" name="">
            <a:hlinkClick r:id="rId1"/>
          </p:cNvPr>
          <p:cNvSpPr/>
          <p:nvPr/>
        </p:nvSpPr>
        <p:spPr>
          <a:xfrm>
            <a:off x="57913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15:41:06Z</dcterms:created>
  <dc:creator>h439090</dc:creator>
  <dc:description/>
  <dc:language>en-US</dc:language>
  <cp:lastModifiedBy>h439090</cp:lastModifiedBy>
  <dcterms:modified xsi:type="dcterms:W3CDTF">2007-01-09T15:44:14Z</dcterms:modified>
  <cp:revision>2</cp:revision>
  <dc:subject/>
  <dc:title>Exkurs Krankenhausvergütung</dc:title>
</cp:coreProperties>
</file>