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815A3-A98C-4AE0-BDD0-82C32E81B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818F1-F8E9-4414-8587-3BE4DE339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F83B6-755F-448C-8D20-3C6B0A73C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98561-F2C2-4696-9D60-9A4736E49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E4FA5-C999-4B85-B287-2EA24162B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15765-4FDA-425F-89CD-4A048F716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13BB9-B9EC-470A-8116-6C26BA244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29C70-6C09-4920-8D80-71F9CED28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48079-EAD7-478A-BA47-F7D0385F3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168D7-00C5-4CA9-BEA8-405C1A38A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7042C-3E41-4F44-96E1-DB316A5CE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F5310-0F11-4C5F-BA24-D3AD415A5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0F95-C48C-45BA-840F-56A69F958D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Das%20GKV-Leistungsrech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kurs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stbeträ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322200"/>
            <a:ext cx="8610480" cy="6219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93680" algn="ct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ekanntmachungen</a:t>
            </a:r>
            <a:endParaRPr b="0" lang="en-US" sz="1400" spc="-1" strike="noStrike">
              <a:solidFill>
                <a:srgbClr val="000000"/>
              </a:solidFill>
              <a:latin typeface="Times New Roman"/>
            </a:endParaRPr>
          </a:p>
          <a:p>
            <a:pPr marL="193680" algn="ct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undesministerium für Gesundheit und Soziale Sicherung</a:t>
            </a:r>
            <a:endParaRPr b="0" lang="en-US" sz="1400" spc="-1" strike="noStrike">
              <a:solidFill>
                <a:srgbClr val="000000"/>
              </a:solidFill>
              <a:latin typeface="Times New Roman"/>
            </a:endParaRPr>
          </a:p>
          <a:p>
            <a:pPr marL="193680" algn="ct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ahoma"/>
              </a:rPr>
              <a:t>Bekanntmachung des Gemeinsamen Bundesausschusses über eine Änderung der Richtlinien</a:t>
            </a:r>
            <a:endParaRPr b="0" lang="en-US" sz="1400" spc="-1" strike="noStrike">
              <a:solidFill>
                <a:srgbClr val="000000"/>
              </a:solidFill>
              <a:latin typeface="Times New Roman"/>
            </a:endParaRPr>
          </a:p>
          <a:p>
            <a:pPr marL="193680" algn="ct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ahoma"/>
              </a:rPr>
              <a:t>über die Verordnung von Arzneimitteln in der vertragsärztlichen Versorgung</a:t>
            </a:r>
            <a:endParaRPr b="0" lang="en-US" sz="1400" spc="-1" strike="noStrike">
              <a:solidFill>
                <a:srgbClr val="000000"/>
              </a:solidFill>
              <a:latin typeface="Times New Roman"/>
            </a:endParaRPr>
          </a:p>
          <a:p>
            <a:pPr marL="193680" algn="ct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ahoma"/>
              </a:rPr>
              <a:t>(Arzneimittel-Richtlinien)</a:t>
            </a:r>
            <a:endParaRPr b="0" lang="en-US" sz="1400" spc="-1" strike="noStrike">
              <a:solidFill>
                <a:srgbClr val="000000"/>
              </a:solidFill>
              <a:latin typeface="Times New Roman"/>
            </a:endParaRPr>
          </a:p>
          <a:p>
            <a:pPr marL="193680" algn="ct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ahoma"/>
              </a:rPr>
              <a:t>Vom 16. März 2004</a:t>
            </a:r>
            <a:endParaRPr b="0" lang="en-US" sz="1400" spc="-1" strike="noStrike">
              <a:solidFill>
                <a:srgbClr val="000000"/>
              </a:solidFill>
              <a:latin typeface="Times New Roman"/>
            </a:endParaRPr>
          </a:p>
          <a:p>
            <a:pPr marL="193680">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Der Gemeinsame Bundesausschuss hat in seiner Sitzung am 16. März 2004 beschlossen, die Anlage 2 der Arzneimittel-Richtlinienin der Fassung vom 31. August 1993 (BAnz. S. 11 155), zuletzt geändert am 16. März 2004 (BAnz. S. 8905), wie folgt zu ändern bzw. zu ergänzen:</a:t>
            </a:r>
            <a:endParaRPr b="0" lang="en-US" sz="1400" spc="-1" strike="noStrike">
              <a:solidFill>
                <a:srgbClr val="000000"/>
              </a:solidFill>
              <a:latin typeface="Times New Roman"/>
            </a:endParaRPr>
          </a:p>
          <a:p>
            <a:pPr marL="193680">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I. Die Festbetragsgruppen nach Stufe 1 werden wie folgt geändert:</a:t>
            </a:r>
            <a:endParaRPr b="0" lang="en-US" sz="1400" spc="-1" strike="noStrike">
              <a:solidFill>
                <a:srgbClr val="000000"/>
              </a:solidFill>
              <a:latin typeface="Times New Roman"/>
            </a:endParaRPr>
          </a:p>
          <a:p>
            <a:pPr marL="193680">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1 In der Festbetragsgruppe Alpha-Liponsäure, Gruppen-Nr. 2, werden die Darreichungsformen „Ampullen, Injektionsflaschen,Infusionslösungen, ggf. mit Applikationshilfen auf Antrag des Herstellers“ um die Darreichungsformen „Injektionslösung, Set, Start“ ergänzt.</a:t>
            </a:r>
            <a:endParaRPr b="0" lang="en-US" sz="1400" spc="-1" strike="noStrike">
              <a:solidFill>
                <a:srgbClr val="000000"/>
              </a:solidFill>
              <a:latin typeface="Times New Roman"/>
            </a:endParaRPr>
          </a:p>
          <a:p>
            <a:pPr marL="193680">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2 In der Festbetragsgruppe Amantadin, Gruppen-Nr. 1, wird die Gruppenbeschreibung „feste orale Darreichungsformen“ durch die Gruppenbeschreibung „Abgeteilte orale Darreichungsformen“ ersetzt und die Darreichungsformen „Kapseln, Tabletten, Filmtabletten“ um die Darreichungsform „Brausetabletten“ ergänzt.</a:t>
            </a:r>
            <a:endParaRPr b="0" lang="en-US" sz="1400" spc="-1" strike="noStrike">
              <a:solidFill>
                <a:srgbClr val="000000"/>
              </a:solidFill>
              <a:latin typeface="Times New Roman"/>
            </a:endParaRPr>
          </a:p>
          <a:p>
            <a:pPr marL="193680">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3 In der Festbetragsgruppe Ambroxol, Gruppen-Nr. 3, werden die Darreichungsformen „Injektionslösungen, Infusionslösungen“ um die Darreichungsform „Ampullen“ ergänzt.</a:t>
            </a:r>
            <a:endParaRPr b="0" lang="en-US" sz="1400" spc="-1" strike="noStrike">
              <a:solidFill>
                <a:srgbClr val="000000"/>
              </a:solidFill>
              <a:latin typeface="Times New Roman"/>
            </a:endParaRPr>
          </a:p>
          <a:p>
            <a:pPr marL="193680">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4 In der Festbetragsgruppe Amitriptylin werden die Darreichungsformen „Dragees, Tabletten,    Filmtabletten, Tabs, Retardkapseln, Retardfilmtabletten, Lösung“ um die Darreichungsform „Retardtabletten“ ergänzt.</a:t>
            </a:r>
            <a:endParaRPr b="0" lang="en-US" sz="1400" spc="-1" strike="noStrike">
              <a:solidFill>
                <a:srgbClr val="000000"/>
              </a:solidFill>
              <a:latin typeface="Times New Roman"/>
            </a:endParaRPr>
          </a:p>
        </p:txBody>
      </p:sp>
      <p:sp>
        <p:nvSpPr>
          <p:cNvPr id="44" name=""/>
          <p:cNvSpPr/>
          <p:nvPr/>
        </p:nvSpPr>
        <p:spPr>
          <a:xfrm rot="20398200">
            <a:off x="381240" y="304560"/>
            <a:ext cx="19814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698400"/>
            <a:ext cx="8610480" cy="461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93680">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DSMelior-Roman"/>
              </a:rPr>
              <a:t>II. Die Festbetragsgruppen nach Stufe 2 werden wie folgt geändert:</a:t>
            </a:r>
            <a:endParaRPr b="0" lang="en-US" sz="1400" spc="-1" strike="noStrike">
              <a:solidFill>
                <a:srgbClr val="000000"/>
              </a:solidFill>
              <a:latin typeface="Times New Roman"/>
            </a:endParaRPr>
          </a:p>
          <a:p>
            <a:pPr marL="193680">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DSMelior-Roman"/>
              </a:rPr>
              <a:t>1 In der Festbetragsgruppe Alpha-Rezeptorenblocker, Gruppen-Nr. 1, werden die Darreichungsformen „Tabletten, Retardkapseln“ um die Darreichungsform</a:t>
            </a:r>
            <a:endParaRPr b="0" lang="en-US" sz="1400" spc="-1" strike="noStrike">
              <a:solidFill>
                <a:srgbClr val="000000"/>
              </a:solidFill>
              <a:latin typeface="Times New Roman"/>
            </a:endParaRPr>
          </a:p>
          <a:p>
            <a:pPr marL="193680" algn="ct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DSMelior-Roman"/>
              </a:rPr>
              <a:t>	</a:t>
            </a:r>
            <a:r>
              <a:rPr b="0" lang="de-DE" sz="1400" spc="-1" strike="noStrike">
                <a:solidFill>
                  <a:srgbClr val="000000"/>
                </a:solidFill>
                <a:latin typeface="MDSMelior-Roman"/>
              </a:rPr>
              <a:t>	</a:t>
            </a:r>
            <a:r>
              <a:rPr b="0" lang="de-DE" sz="1400" spc="-1" strike="noStrike">
                <a:solidFill>
                  <a:srgbClr val="000000"/>
                </a:solidFill>
                <a:latin typeface="MDSMelior-Roman"/>
              </a:rPr>
              <a:t>1. „Retardtabletten“ ergänzt.</a:t>
            </a:r>
            <a:endParaRPr b="0" lang="en-US" sz="1400" spc="-1" strike="noStrike">
              <a:solidFill>
                <a:srgbClr val="000000"/>
              </a:solidFill>
              <a:latin typeface="Times New Roman"/>
            </a:endParaRPr>
          </a:p>
          <a:p>
            <a:pPr marL="193680">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DSMelior-Roman"/>
              </a:rPr>
              <a:t>2 In der Festbetragsgruppe Anionenaustauscherharze, Gruppen-Nr. 1, werden die Darreichungsformen „Granulat, Pulver“ um die Darreichungsform</a:t>
            </a:r>
            <a:endParaRPr b="0" lang="en-US" sz="1400" spc="-1" strike="noStrike">
              <a:solidFill>
                <a:srgbClr val="000000"/>
              </a:solidFill>
              <a:latin typeface="Times New Roman"/>
            </a:endParaRPr>
          </a:p>
          <a:p>
            <a:pPr marL="193680" algn="ct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DSMelior-Roman"/>
              </a:rPr>
              <a:t>1. „Beutel“ ergänzt.</a:t>
            </a:r>
            <a:endParaRPr b="0" lang="en-US" sz="1400" spc="-1" strike="noStrike">
              <a:solidFill>
                <a:srgbClr val="000000"/>
              </a:solidFill>
              <a:latin typeface="Times New Roman"/>
            </a:endParaRPr>
          </a:p>
          <a:p>
            <a:pPr marL="193680">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DSMelior-Roman"/>
              </a:rPr>
              <a:t>3 In der Festbetragsgruppe Azol-Antimykotika, Gruppen-Nr. 2, werden die Darreichungsformen „Beutel, Lösung, Lotion, Spray“ um die Darreichungsform</a:t>
            </a:r>
            <a:endParaRPr b="0" lang="en-US" sz="1400" spc="-1" strike="noStrike">
              <a:solidFill>
                <a:srgbClr val="000000"/>
              </a:solidFill>
              <a:latin typeface="Times New Roman"/>
            </a:endParaRPr>
          </a:p>
          <a:p>
            <a:pPr marL="193680" algn="ct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DSMelior-Roman"/>
              </a:rPr>
              <a:t>1. „Pumpspray“ ergänzt.</a:t>
            </a:r>
            <a:endParaRPr b="0" lang="en-US" sz="1400" spc="-1" strike="noStrike">
              <a:solidFill>
                <a:srgbClr val="000000"/>
              </a:solidFill>
              <a:latin typeface="Times New Roman"/>
            </a:endParaRPr>
          </a:p>
          <a:p>
            <a:pPr marL="193680">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DSMelior-Roman"/>
              </a:rPr>
              <a:t>4 In der Festbetragsgruppe Benzodiazepine, Gruppen-Nr. 1, werden die Darreichungsformen „Dragees, Kapseln, Tabletten, Tabs, Tropfen“ um die Darreichungsform</a:t>
            </a:r>
            <a:endParaRPr b="0" lang="en-US" sz="1400" spc="-1" strike="noStrike">
              <a:solidFill>
                <a:srgbClr val="000000"/>
              </a:solidFill>
              <a:latin typeface="Times New Roman"/>
            </a:endParaRPr>
          </a:p>
          <a:p>
            <a:pPr marL="193680" algn="ct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DSMelior-Roman"/>
              </a:rPr>
              <a:t>1. „Filmtabletten“ ergänzt.</a:t>
            </a:r>
            <a:endParaRPr b="0" lang="en-US" sz="1400" spc="-1" strike="noStrike">
              <a:solidFill>
                <a:srgbClr val="000000"/>
              </a:solidFill>
              <a:latin typeface="Times New Roman"/>
            </a:endParaRPr>
          </a:p>
          <a:p>
            <a:pPr marL="193680">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DSMelior-Roman"/>
              </a:rPr>
              <a:t>5 In der Festbetragsgruppe Benzodiazepine, Gruppen-Nr. 2, werden die Darreichungsformen „Dragees, Kapseln, Tabletten, Filmtabletten, Tabs“ um die Darreichungsform</a:t>
            </a:r>
            <a:endParaRPr b="0" lang="en-US" sz="1400" spc="-1" strike="noStrike">
              <a:solidFill>
                <a:srgbClr val="000000"/>
              </a:solidFill>
              <a:latin typeface="Times New Roman"/>
            </a:endParaRPr>
          </a:p>
          <a:p>
            <a:pPr marL="193680" algn="ctr">
              <a:lnSpc>
                <a:spcPct val="100000"/>
              </a:lnSpc>
              <a:spcBef>
                <a:spcPts val="876"/>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DSMelior-Roman"/>
              </a:rPr>
              <a:t>1. „Lacktabletten“ ergänzt.</a:t>
            </a:r>
            <a:endParaRPr b="0" lang="en-US" sz="1400" spc="-1" strike="noStrike">
              <a:solidFill>
                <a:srgbClr val="000000"/>
              </a:solidFill>
              <a:latin typeface="Times New Roman"/>
            </a:endParaRPr>
          </a:p>
        </p:txBody>
      </p:sp>
      <p:sp>
        <p:nvSpPr>
          <p:cNvPr id="46" name=""/>
          <p:cNvSpPr/>
          <p:nvPr/>
        </p:nvSpPr>
        <p:spPr>
          <a:xfrm>
            <a:off x="4572000" y="5638680"/>
            <a:ext cx="35053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lle bisherigen Beschlüsse auf www.g-ba.d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1317600"/>
            <a:ext cx="8610480" cy="43232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erfassungsmäßigkeit des Verfahrens zur Festbetragsfestsetzung für Arznei- und Hilfsmittel - Zulässigkeit der Vorlagen - keine Grundrechtsverletzung der Ärzte und der Versicherten, Berufsfreiheit der Leistungserbringer und Pharmazieunternehmen nicht berührt - Umsetzung des Wirtschaftlichkeitsgebot zur Erhaltung der Funktionsfähigkeit der gesetzlichen Krankenversicherung - keine Abkehr vom Sachleistungsprinzip</a:t>
            </a:r>
            <a:r>
              <a:rPr b="0" lang="en-US" sz="2400" spc="-1" strike="noStrike">
                <a:solidFill>
                  <a:srgbClr val="000000"/>
                </a:solidFill>
                <a:latin typeface="Verdana"/>
              </a:rPr>
              <a:t> </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itsatz</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e in §§ 35 und 36 Fünftes Buch Sozialgesetzbuch (SGB V) enthaltene Ermächtigung der Krankenkassenverbände, für Arznei- und Hilfsmittel Festbeträge festzusetzen, ist mit dem Grundgesetz vereinb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
          <p:cNvSpPr/>
          <p:nvPr/>
        </p:nvSpPr>
        <p:spPr>
          <a:xfrm>
            <a:off x="1752480" y="685800"/>
            <a:ext cx="563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BVerfG 17.12.20021 BvL 28/9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3851280"/>
            <a:ext cx="8610480" cy="18280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Die Vorschriften über das Verfahren der Festbetragsfestsetzung stehen mit dem Grundgesetz in Einklang. Entgegen der Auffassung des vorlegenden Gerichts verstößt die den Spitzenverbänden der Krankenkassen in § 35 SGB V einge-räumte Befugnis, für Arzneimittel Festbeträge festzusetzen, nicht gegen Art. 12, Art. 20 und Art. 80 GG . Das Gleiche gilt für die in § 36 in Verbindung mit § 35 SGB V den dort genannten Verbänden eingeräumte Berechtigung, für Hilfsmittel Festbeträge zu bestimmen. Verfassungsrecht gebietet nicht, die Festbeträge durch Rechtsverordnung festzusetzen.</a:t>
            </a:r>
            <a:r>
              <a:rPr b="0" lang="de-DE" sz="2400" spc="-1" strike="noStrike">
                <a:solidFill>
                  <a:srgbClr val="000000"/>
                </a:solidFill>
                <a:latin typeface="Verdana"/>
              </a:rPr>
              <a:t> </a:t>
            </a:r>
            <a:endParaRPr b="0" lang="en-US" sz="2400" spc="-1" strike="noStrike">
              <a:solidFill>
                <a:srgbClr val="000000"/>
              </a:solidFill>
              <a:latin typeface="Times New Roman"/>
            </a:endParaRPr>
          </a:p>
        </p:txBody>
      </p:sp>
      <p:sp>
        <p:nvSpPr>
          <p:cNvPr id="50" name=""/>
          <p:cNvSpPr/>
          <p:nvPr/>
        </p:nvSpPr>
        <p:spPr>
          <a:xfrm>
            <a:off x="1262160" y="53352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BVerfG 17.12.20021 BvL 28/95 Auszüge</a:t>
            </a:r>
            <a:endParaRPr b="0" lang="en-US" sz="2400" spc="-1" strike="noStrike">
              <a:solidFill>
                <a:srgbClr val="000000"/>
              </a:solidFill>
              <a:latin typeface="Times New Roman"/>
            </a:endParaRPr>
          </a:p>
        </p:txBody>
      </p:sp>
      <p:sp>
        <p:nvSpPr>
          <p:cNvPr id="51" name=""/>
          <p:cNvSpPr/>
          <p:nvPr/>
        </p:nvSpPr>
        <p:spPr>
          <a:xfrm>
            <a:off x="324000" y="1447920"/>
            <a:ext cx="8534160" cy="18082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fahrensga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s Sozialgericht wies die Klage a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f die Revision der Klägerin hat das Bundessozialgericht das Verfahren ausgesetzt und dem Bundesverfassungsgericht die Frage zur Entscheidung vorgelegt, ob die in § 35 SGB V den Spitzenverbänden der Krankenkassen eingeräumte Befugnis, für Arzneimittel Festbeträge festzusetzen, mit dem Grundgesetz vereinbar sei.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33360" y="2746440"/>
            <a:ext cx="8534520" cy="15858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r Bundesgerichtshof und das Oberlandesgericht Düsseldorf möchten mit ihren Fragen vom Gerichtshof im Wesentlichen wissen, ob die Wettbewerbsvorschriften des EG-Vertrags Zusammenschlüsse von Krankenkassen wie die Kassenverbände daran hindern, Festbeträge festzusetzen, bis zu deren Erreichen die Krankenkassen die Kosten von Arzneimitteln übernehmen. Der Bundesgerichtshof möchte ferner wissen, ob bei Bejahung dieser Frage Ansprüche gegen diese Zusammenschlüsse auf Beseitigung und auf Ersatz des durch die Anwendung der Festbeträge entstandenen Schadens bestehen.</a:t>
            </a:r>
            <a:endParaRPr b="0" lang="en-US" sz="1400" spc="-1" strike="noStrike">
              <a:solidFill>
                <a:srgbClr val="000000"/>
              </a:solidFill>
              <a:latin typeface="Times New Roman"/>
            </a:endParaRPr>
          </a:p>
        </p:txBody>
      </p:sp>
      <p:sp>
        <p:nvSpPr>
          <p:cNvPr id="53" name=""/>
          <p:cNvSpPr/>
          <p:nvPr/>
        </p:nvSpPr>
        <p:spPr>
          <a:xfrm>
            <a:off x="1262160" y="53352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uGH v. 16.03.2004 (Auszüge)</a:t>
            </a:r>
            <a:endParaRPr b="0" lang="en-US" sz="2400" spc="-1" strike="noStrike">
              <a:solidFill>
                <a:srgbClr val="000000"/>
              </a:solidFill>
              <a:latin typeface="Times New Roman"/>
            </a:endParaRPr>
          </a:p>
        </p:txBody>
      </p:sp>
      <p:sp>
        <p:nvSpPr>
          <p:cNvPr id="54" name=""/>
          <p:cNvSpPr/>
          <p:nvPr/>
        </p:nvSpPr>
        <p:spPr>
          <a:xfrm>
            <a:off x="324000" y="1222200"/>
            <a:ext cx="8534160" cy="13726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Das Oberlandesgericht Düsseldorf und der Bundesgerichtshof haben dem Gerichtshof nach Artikel 234 EG mehrere Fragen nach der Auslegung der Artikel 81 EG, 82 EG und 86 EG zur Vorabentscheidung vorge-legt. Das Oberlandesgericht Düsseldorf hat mit zwei Beschlüssen vom 18. Mai 2001 und 11. Juli 2001, beim Gerichtshof eingegangen am 5. Juli 2001 und 6. August 2001, vier Fragen vorgelegt. Der Bundes-gerichtshof hat mit zwei Beschlüssen vom 3. Juli 2001, beim Gerichtshof eingegangen am 20. September 2001, drei Fragen vorgelegt.</a:t>
            </a:r>
            <a:endParaRPr b="0" lang="en-US" sz="1400" spc="-1" strike="noStrike">
              <a:solidFill>
                <a:srgbClr val="000000"/>
              </a:solidFill>
              <a:latin typeface="Times New Roman"/>
            </a:endParaRPr>
          </a:p>
        </p:txBody>
      </p:sp>
      <p:sp>
        <p:nvSpPr>
          <p:cNvPr id="55" name=""/>
          <p:cNvSpPr/>
          <p:nvPr/>
        </p:nvSpPr>
        <p:spPr>
          <a:xfrm>
            <a:off x="333360" y="4287960"/>
            <a:ext cx="8534520" cy="23364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mit ist festzustellen, dass die Kassenverbände mit der Festsetzung der Festbeträge nur eine Pflicht im Rahmen der Verwaltung des deutschen Systems der sozialen Sicherheit erfüllen, die ihnen das Gesetz auferlegt, und dass sie nicht als Unternehmen handeln, die eine wirtschaftliche Tätigkeit ausüb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f die erste Frage ist daher zu antworten, dass Zusammenschlüsse von Krankenkassen wie die in den Ausgangsverfahren in Rede stehenden Kassenverbände keine Unternehmen oder Unternehmensvereinigungen im Sinne des Artikels 81 EG sind, wenn sie Festbeträge festsetzen, bis zu deren Erreichen die Krankenkassen die Kosten von Arzneimitteln übernehmen. </a:t>
            </a:r>
            <a:r>
              <a:rPr b="0" lang="en-US" sz="1400" spc="-1" strike="noStrike">
                <a:solidFill>
                  <a:srgbClr val="000000"/>
                </a:solidFill>
                <a:latin typeface="Verdana"/>
              </a:rPr>
              <a:t>In Anbetracht der Antwort auf die erste Frage sind die übrigen von den nationalen Gerichten vorgelegten Fragen nicht zu beantworten.</a:t>
            </a:r>
            <a:endParaRPr b="0" lang="en-US" sz="1400" spc="-1" strike="noStrike">
              <a:solidFill>
                <a:srgbClr val="000000"/>
              </a:solidFill>
              <a:latin typeface="Times New Roman"/>
            </a:endParaRPr>
          </a:p>
        </p:txBody>
      </p:sp>
      <p:sp>
        <p:nvSpPr>
          <p:cNvPr id="56" name="">
            <a:hlinkClick r:id="rId1"/>
          </p:cNvPr>
          <p:cNvSpPr/>
          <p:nvPr/>
        </p:nvSpPr>
        <p:spPr>
          <a:xfrm>
            <a:off x="6934320" y="63244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6386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794"/>
                </a:moveTo>
                <a:arcTo wR="7006" hR="7006" stAng="16200000" swAng="-5400000"/>
                <a:arcTo wR="7006" hR="7006" stAng="10800000" swAng="-5400000"/>
                <a:arcTo wR="7006" hR="7006" stAng="5400000" swAng="-5400000"/>
                <a:arcTo wR="7006" hR="7006" stAng="0" swAng="-5400000"/>
                <a:close/>
              </a:path>
              <a:path fill="lighten" w="27000" h="21600">
                <a:moveTo>
                  <a:pt x="13500" y="4168"/>
                </a:moveTo>
                <a:arcTo wR="1793" hR="1793" stAng="16200000" swAng="-5400000"/>
                <a:arcTo wR="1793" hR="1793" stAng="10800000" swAng="-5400000"/>
                <a:arcTo wR="1793" hR="1793" stAng="5400000" swAng="-5400000"/>
                <a:arcTo wR="1793" hR="1793" stAng="0" swAng="-5400000"/>
                <a:close/>
              </a:path>
              <a:path fill="lighten" w="27000" h="21600">
                <a:moveTo>
                  <a:pt x="10924" y="8224"/>
                </a:moveTo>
                <a:lnTo>
                  <a:pt x="14788" y="8224"/>
                </a:lnTo>
                <a:lnTo>
                  <a:pt x="14788" y="15221"/>
                </a:lnTo>
                <a:lnTo>
                  <a:pt x="16076" y="15221"/>
                </a:lnTo>
                <a:lnTo>
                  <a:pt x="16076" y="16144"/>
                </a:lnTo>
                <a:lnTo>
                  <a:pt x="10924" y="16144"/>
                </a:lnTo>
                <a:lnTo>
                  <a:pt x="10924" y="15221"/>
                </a:lnTo>
                <a:lnTo>
                  <a:pt x="12212" y="15221"/>
                </a:lnTo>
                <a:lnTo>
                  <a:pt x="12212" y="9129"/>
                </a:lnTo>
                <a:lnTo>
                  <a:pt x="10924" y="9129"/>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7T13:43:32Z</dcterms:created>
  <dc:creator>h439090</dc:creator>
  <dc:description/>
  <dc:language>en-US</dc:language>
  <cp:lastModifiedBy>h439090</cp:lastModifiedBy>
  <dcterms:modified xsi:type="dcterms:W3CDTF">2008-04-07T12:51:20Z</dcterms:modified>
  <cp:revision>8</cp:revision>
  <dc:subject/>
  <dc:title>Exkurs </dc:title>
</cp:coreProperties>
</file>