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9091B-B15B-4327-A82D-905CD12FA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47538-9B65-424B-9A5B-E5C2C04E1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736B2-0DA0-4454-84D3-B9E0EF01D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FF75E-B5A5-4901-9857-0C044D7A4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05EB3-9829-4C63-80C3-89B8AF841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7EF8E-F5EA-4551-AF0F-8C7977E5A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F4022-27DC-422C-B778-7AF5E5076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5641C-5718-485D-8971-D46C32AF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4A656-C00E-4110-BA26-30EF1CF19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50C0-629C-4438-8D20-3EF9995E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E742C-23B3-4482-9CA9-7D00F2BD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3C456-89D9-496F-91F9-5C161D17A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A7A8-E004-441A-AD06-829A1ED43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Das%20GKV-Leistungsrech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00200" y="2666880"/>
            <a:ext cx="5943600" cy="1381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kur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 Institut für Qualität und Wirtschaftlichkeit im Gesundheitswes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9907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123840" y="76320"/>
            <a:ext cx="8915400" cy="13820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 139a SGB V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Institut für Qualität und Wirtschaftlichkeit im Gesundheitswese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1) Der Gemeinsame Bundesausschuss nach § 91</a:t>
            </a:r>
            <a:r>
              <a:rPr b="0" lang="de-DE" sz="1400" spc="-1" strike="noStrike">
                <a:solidFill>
                  <a:srgbClr val="0000ff"/>
                </a:solidFill>
                <a:latin typeface="Arial"/>
                <a:ea typeface="Arial"/>
              </a:rPr>
              <a:t> </a:t>
            </a:r>
            <a:r>
              <a:rPr b="0" lang="de-DE" sz="1400" spc="-1" strike="noStrike">
                <a:solidFill>
                  <a:srgbClr val="000000"/>
                </a:solidFill>
                <a:latin typeface="Arial"/>
                <a:ea typeface="Arial"/>
              </a:rPr>
              <a:t>gründet ein fachlich unabhängiges, rechtsfähiges, wissen-schaftliches Institut für Qualität und Wirtschaftlichkeit im Gesundheitswesen und ist dessen Träger. Hierzu kann eine Stiftung des privaten Rechts errichtet werden. </a:t>
            </a:r>
            <a:endParaRPr b="0" lang="en-US" sz="1400" spc="-1" strike="noStrike">
              <a:solidFill>
                <a:srgbClr val="000000"/>
              </a:solidFill>
              <a:latin typeface="Times New Roman"/>
            </a:endParaRPr>
          </a:p>
        </p:txBody>
      </p:sp>
      <p:sp>
        <p:nvSpPr>
          <p:cNvPr id="44" name=""/>
          <p:cNvSpPr/>
          <p:nvPr/>
        </p:nvSpPr>
        <p:spPr>
          <a:xfrm>
            <a:off x="123840" y="1523880"/>
            <a:ext cx="8915400" cy="9464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Die Bestellung der Institutsleitung hat im Einvernehmen mit dem Bundesministerium für Gesundheit und Soziale Sicherung zu erfolgen. Wird eine Stiftung des privaten Rechts errichtet, erfolgt das Einvernehmen innerhalb des Stiftungsvorstands, in den das Bundesministerium für Gesundheit und Soziale Sicherung einen Vertreter entsendet. </a:t>
            </a:r>
            <a:endParaRPr b="0" lang="en-US" sz="1400" spc="-1" strike="noStrike">
              <a:solidFill>
                <a:srgbClr val="000000"/>
              </a:solidFill>
              <a:latin typeface="Times New Roman"/>
            </a:endParaRPr>
          </a:p>
        </p:txBody>
      </p:sp>
      <p:sp>
        <p:nvSpPr>
          <p:cNvPr id="45" name=""/>
          <p:cNvSpPr/>
          <p:nvPr/>
        </p:nvSpPr>
        <p:spPr>
          <a:xfrm>
            <a:off x="152280" y="2590920"/>
            <a:ext cx="8839440" cy="39621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3) Das Institut wird zu Fragen von grundsätzlicher Bedeutung für die Qualität und Wirtschaftlichkeit der im Rahmen der gesetzlichen Krankenversicherung erbrachten Leistungen insbesondere auf folgenden Gebieten tätig: </a:t>
            </a:r>
            <a:br>
              <a:rPr sz="1400"/>
            </a:b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 Recherche, Darstellung und Bewertung des aktuellen medizinischen Wissensstandes zu diagnostischen und therapeutischen Verfahren bei ausgewählten Krankheiten, </a:t>
            </a:r>
            <a:br>
              <a:rPr sz="1200"/>
            </a:br>
            <a:br>
              <a:rPr sz="1200"/>
            </a:br>
            <a:r>
              <a:rPr b="0" lang="de-DE" sz="1200" spc="-1" strike="noStrike">
                <a:solidFill>
                  <a:srgbClr val="000000"/>
                </a:solidFill>
                <a:latin typeface="Arial"/>
                <a:ea typeface="Arial"/>
              </a:rPr>
              <a:t>2.  Erstellung von wissenschaftlichen Ausarbeitungen, Gutachten und Stellungnahmen zu Fragen der Qualität und Wirtschaftlichkeit der im Rahmen der gesetzlichen Krankenversicherung erbrachten Leistungen unter Berücksichtigung alters-, geschlechts- und lebenslagenspezifischer Besonderheiten, </a:t>
            </a:r>
            <a:br>
              <a:rPr sz="1200"/>
            </a:br>
            <a:br>
              <a:rPr sz="1200"/>
            </a:br>
            <a:r>
              <a:rPr b="0" lang="de-DE" sz="1200" spc="-1" strike="noStrike">
                <a:solidFill>
                  <a:srgbClr val="000000"/>
                </a:solidFill>
                <a:latin typeface="Arial"/>
                <a:ea typeface="Arial"/>
              </a:rPr>
              <a:t>3.  Bewertungen evidenzbasierter Leitlinien für die epidemiologisch wichtigsten Krankheiten, </a:t>
            </a:r>
            <a:br>
              <a:rPr sz="1200"/>
            </a:br>
            <a:br>
              <a:rPr sz="1200"/>
            </a:br>
            <a:r>
              <a:rPr b="0" lang="de-DE" sz="1200" spc="-1" strike="noStrike">
                <a:solidFill>
                  <a:srgbClr val="000000"/>
                </a:solidFill>
                <a:latin typeface="Arial"/>
                <a:ea typeface="Arial"/>
              </a:rPr>
              <a:t>4.  Abgabe von Empfehlungen zu Disease-Management-Programmen, </a:t>
            </a:r>
            <a:br>
              <a:rPr sz="1200"/>
            </a:br>
            <a:br>
              <a:rPr sz="1200"/>
            </a:br>
            <a:r>
              <a:rPr b="0" lang="de-DE" sz="1200" spc="-1" strike="noStrike">
                <a:solidFill>
                  <a:srgbClr val="000000"/>
                </a:solidFill>
                <a:latin typeface="Arial"/>
                <a:ea typeface="Arial"/>
              </a:rPr>
              <a:t>5.  Bewertung des Nutzens von Arzneimitteln, </a:t>
            </a:r>
            <a:br>
              <a:rPr sz="1200"/>
            </a:br>
            <a:br>
              <a:rPr sz="1200"/>
            </a:br>
            <a:r>
              <a:rPr b="0" lang="de-DE" sz="1200" spc="-1" strike="noStrike">
                <a:solidFill>
                  <a:srgbClr val="000000"/>
                </a:solidFill>
                <a:latin typeface="Arial"/>
                <a:ea typeface="Arial"/>
              </a:rPr>
              <a:t>6.  Bereitstellung von für alle Bürgerinnen und Bürger verständlichen allgemeinen Informationen zur Qualität und Effizienz in der Gesundheitsversorgung. </a:t>
            </a:r>
            <a:br>
              <a:rPr sz="12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685800"/>
            <a:ext cx="8458200" cy="9169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4) Das Institut hat in regelmäßigen Abständen über die Arbeitsprozesse und -ergebnisse einschließlich der Grundlagen für die Entscheidungsfindung öffentlich zu berichten. </a:t>
            </a:r>
            <a:endParaRPr b="0" lang="en-US" sz="1800" spc="-1" strike="noStrike">
              <a:solidFill>
                <a:srgbClr val="000000"/>
              </a:solidFill>
              <a:latin typeface="Times New Roman"/>
            </a:endParaRPr>
          </a:p>
        </p:txBody>
      </p:sp>
      <p:sp>
        <p:nvSpPr>
          <p:cNvPr id="47" name=""/>
          <p:cNvSpPr/>
          <p:nvPr/>
        </p:nvSpPr>
        <p:spPr>
          <a:xfrm>
            <a:off x="380880" y="1809720"/>
            <a:ext cx="8458200" cy="1465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Den für die Wahrnehmung der Interessen der Patientinnen und Patienten und der Selbsthilfe chronisch kranker und behinderter Menschen maßgeblichen Organisationen sowie der oder dem Beauftragten der Bundesregierung für die Belange der Patientinnen und Patienten ist im Rahmen der Aufgabenerfüllung des Instituts Gelegenheit zur Stellungnahme zu geben.</a:t>
            </a:r>
            <a:endParaRPr b="0" lang="en-US" sz="1800" spc="-1" strike="noStrike">
              <a:solidFill>
                <a:srgbClr val="000000"/>
              </a:solidFill>
              <a:latin typeface="Times New Roman"/>
            </a:endParaRPr>
          </a:p>
        </p:txBody>
      </p:sp>
      <p:sp>
        <p:nvSpPr>
          <p:cNvPr id="48" name=""/>
          <p:cNvSpPr/>
          <p:nvPr/>
        </p:nvSpPr>
        <p:spPr>
          <a:xfrm>
            <a:off x="380880" y="3581280"/>
            <a:ext cx="8458200" cy="1465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6) Zur Sicherstellung der fachlichen Unabhängigkeit des Instituts haben die Beschäftigten vor ihrer Einstellung alle Beziehungen zu Interessenverbänden, Auftragsinstituten, insbesondere der pharmazeutischen Industrie und der Medizinprodukteindustrie, einschließlich Art und Höhe von Zuwendungen offen zu leg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146160"/>
            <a:ext cx="8763120" cy="25383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Arial"/>
              </a:rPr>
              <a:t>§ 139b SGB V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Arial"/>
              </a:rPr>
              <a:t>Aufgabendurchführu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1) Der Gemeinsame Bundesausschuss nach § 91</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beauftragt das Institut mit Arbeiten nach § 139a Abs. 3</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 Die den Gemeinsamen Bundesausschuss bildenden Institutionen, das Bun-desministerium für Gesundheit und Soziale Sicherung und die für die Wahrnehmung der Inter-essen der Patientinnen und Patienten und der Selbsthilfe chronisch kranker und behinderter Menschen maßgeblichen Organisationen sowie die oder der Beauftragte der Bundesregierung für die Belange der Patientinnen und Patienten können die Beauftragung des Instituts beim Gemeinsamen Bundesausschuss beantragen. </a:t>
            </a:r>
            <a:endParaRPr b="0" lang="en-US" sz="1600" spc="-1" strike="noStrike">
              <a:solidFill>
                <a:srgbClr val="000000"/>
              </a:solidFill>
              <a:latin typeface="Times New Roman"/>
            </a:endParaRPr>
          </a:p>
        </p:txBody>
      </p:sp>
      <p:sp>
        <p:nvSpPr>
          <p:cNvPr id="50" name=""/>
          <p:cNvSpPr/>
          <p:nvPr/>
        </p:nvSpPr>
        <p:spPr>
          <a:xfrm>
            <a:off x="152280" y="2819520"/>
            <a:ext cx="8763120" cy="13107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2) Das Bundesministerium für Gesundheit und Soziale Sicherung kann die Bearbeitung von Aufgaben nach § 139a Abs. 3</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unmittelbar beim Institut beantragen. Das Institut kann einen An-trag des Bundesministeriums für Gesundheit und Soziale Sicherung als unbegründet ableh-nen, es sei denn, das Bundesministerium für Gesundheit und Soziale Sicherung übernimmt die Finanzierung der Bearbeitung des Auftrags.</a:t>
            </a:r>
            <a:endParaRPr b="0" lang="en-US" sz="1600" spc="-1" strike="noStrike">
              <a:solidFill>
                <a:srgbClr val="000000"/>
              </a:solidFill>
              <a:latin typeface="Times New Roman"/>
            </a:endParaRPr>
          </a:p>
        </p:txBody>
      </p:sp>
      <p:sp>
        <p:nvSpPr>
          <p:cNvPr id="51" name=""/>
          <p:cNvSpPr/>
          <p:nvPr/>
        </p:nvSpPr>
        <p:spPr>
          <a:xfrm>
            <a:off x="152280" y="4343400"/>
            <a:ext cx="8763120" cy="13107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3) Zur Erledigung der Aufgaben nach § 139a Abs. 3 Nr. 1 bis 5</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hat das Institut wissenschaft-liche Forschungsaufträge an externe Sachverständige zu vergeben. Diese haben alle Bezie-hungen zu Interessenverbänden, Auftragsinstituten, insbesondere der pharmazeutischen In-dustrie und der Medizinprodukteindustrie, einschließlich Art und Höhe von Zuwendungen offen zu legen.</a:t>
            </a:r>
            <a:endParaRPr b="0" lang="en-US" sz="1600" spc="-1" strike="noStrike">
              <a:solidFill>
                <a:srgbClr val="000000"/>
              </a:solidFill>
              <a:latin typeface="Times New Roman"/>
            </a:endParaRPr>
          </a:p>
        </p:txBody>
      </p:sp>
      <p:sp>
        <p:nvSpPr>
          <p:cNvPr id="52" name=""/>
          <p:cNvSpPr/>
          <p:nvPr/>
        </p:nvSpPr>
        <p:spPr>
          <a:xfrm>
            <a:off x="152280" y="5791320"/>
            <a:ext cx="8763120" cy="8240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4) Das Institut leitet die Arbeitsergebnisse der Aufträge nach den Absätzen 1 und 2 dem Ge-meinsamen Bundesausschuss nach § 91</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als Empfehlungen zu. Der Gemeinsame Bundesaus-schuss hat die Empfehlungen im Rahmen seiner Aufgabenstellung zu berücksichtige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152280"/>
            <a:ext cx="8686800" cy="35118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Arial"/>
              </a:rPr>
              <a:t>§ 139c SGB V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Arial"/>
              </a:rPr>
              <a:t>Finanzieru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1) Die Finanzierung des Instituts nach § 139a Abs. 1</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erfolgt jeweils zur Hälfte durch die Erhebung eines Zuschlags für jeden abzurechnenden Krankenhausfall und durch die zusätz-liche Anhebung der Vergütungen für die ambulante vertragsärztliche und vertragszahnärzt-liche Versorgung nach den §§ 85</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und 85a um einen entsprechenden Vomhundertsatz. Die im stationären Bereich erhobenen Zuschläge werden in der Rechnung des Krankenhauses ge-sondert ausgewiesen; sie gehen nicht in die Gesamtbeträge nach den §§ 3</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und 4 des Kran-kenhausentgeltgesetzes</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oder nach § 6 der Bundespflegesatzverordnung</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sowie nicht in die entsprechenden Erlösausgleiche ein. Der Zuschlag für jeden Krankenhausfall, die Anteile der Kassenärztlichen und der Kassenzahnärztlichen Vereinigungen sowie das Nähere zur Weiter-leitung dieser Mittel an eine zu benennende Stelle werden durch den Gemeinsamen Bundes-ausschuss festgelegt. </a:t>
            </a:r>
            <a:endParaRPr b="0" lang="en-US" sz="1600" spc="-1" strike="noStrike">
              <a:solidFill>
                <a:srgbClr val="000000"/>
              </a:solidFill>
              <a:latin typeface="Times New Roman"/>
            </a:endParaRPr>
          </a:p>
        </p:txBody>
      </p:sp>
      <p:sp>
        <p:nvSpPr>
          <p:cNvPr id="54" name=""/>
          <p:cNvSpPr/>
          <p:nvPr/>
        </p:nvSpPr>
        <p:spPr>
          <a:xfrm>
            <a:off x="228600" y="3962520"/>
            <a:ext cx="8686800" cy="10674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2) Die Regelung nach Absatz 1 gilt nur, wenn der Gemeinsame Bundesausschuss zur Er-richtung des Instituts nach § 139a Abs. 1</a:t>
            </a:r>
            <a:r>
              <a:rPr b="0" lang="de-DE" sz="1600" spc="-1" strike="noStrike">
                <a:solidFill>
                  <a:srgbClr val="0000ff"/>
                </a:solidFill>
                <a:latin typeface="Arial"/>
                <a:ea typeface="Arial"/>
              </a:rPr>
              <a:t> </a:t>
            </a:r>
            <a:r>
              <a:rPr b="0" lang="de-DE" sz="1600" spc="-1" strike="noStrike">
                <a:solidFill>
                  <a:srgbClr val="000000"/>
                </a:solidFill>
                <a:latin typeface="Arial"/>
                <a:ea typeface="Arial"/>
              </a:rPr>
              <a:t>eine Stiftung des privaten Rechts gegründet hat.  Wird eine Stiftung nicht gegründet, erfolgt die Finanzierung des Instituts jeweils zur Hälfte durch die Verbände der Leistungserbringer und die Spitzenverbände der Krankenkass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1371600"/>
            <a:ext cx="8534160" cy="41256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s IQWiG ist ein unabhängiges wissenschaftliches Institut, das den Nutzen medizinischer Leistungen für den Patienten untersucht. Damit stehen Qualität und Wirtschaftlichkeit auf dem Prüfstand. Das Institut erforscht, was therapeutisch und diagnostisch möglich und sinnvoll ist und informiert Ärzte und Patienten darübe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s wurde im Zuge der </a:t>
            </a:r>
            <a:r>
              <a:rPr b="0" lang="de-DE" sz="1600" spc="-1" strike="noStrike">
                <a:solidFill>
                  <a:srgbClr val="000000"/>
                </a:solidFill>
                <a:latin typeface="Verdana"/>
              </a:rPr>
              <a:t>Gesundheitsreform</a:t>
            </a:r>
            <a:r>
              <a:rPr b="0" lang="de-DE" sz="1600" spc="-1" strike="noStrike">
                <a:solidFill>
                  <a:srgbClr val="000000"/>
                </a:solidFill>
                <a:latin typeface="Times New Roman"/>
              </a:rPr>
              <a:t> am 1. Juni 2004 als private Stiftung gegründet und ist im Auftrag des </a:t>
            </a:r>
            <a:r>
              <a:rPr b="0" lang="de-DE" sz="1600" spc="-1" strike="noStrike">
                <a:solidFill>
                  <a:srgbClr val="000000"/>
                </a:solidFill>
                <a:latin typeface="Verdana"/>
              </a:rPr>
              <a:t>Gemeinsamer Bundesausschuss (G-BA)</a:t>
            </a:r>
            <a:r>
              <a:rPr b="0" lang="de-DE" sz="1600" spc="-1" strike="noStrike">
                <a:solidFill>
                  <a:srgbClr val="000000"/>
                </a:solidFill>
                <a:latin typeface="Times New Roman"/>
              </a:rPr>
              <a:t> oder des </a:t>
            </a:r>
            <a:r>
              <a:rPr b="0" lang="de-DE" sz="1600" spc="-1" strike="noStrike">
                <a:solidFill>
                  <a:srgbClr val="000000"/>
                </a:solidFill>
                <a:latin typeface="Verdana"/>
              </a:rPr>
              <a:t>Bundesgesundheitsministeriums (BMG)</a:t>
            </a:r>
            <a:r>
              <a:rPr b="0" lang="de-DE" sz="1600" spc="-1" strike="noStrike">
                <a:solidFill>
                  <a:srgbClr val="000000"/>
                </a:solidFill>
                <a:latin typeface="Times New Roman"/>
              </a:rPr>
              <a:t> tätig. Finanziert wird das IQWiG aus Mitteln der gesetzlichen Krankenversicherung (GKV).</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Zu den Instituts-Aufgaben gehört unter anderem die Bewertung von Operations- und Diagnoseverfahren, Arzneimitteln sowie Behandlungsleitlinien. Auf der Basis der evidenzbasierten Medizin erarbeitet das IQWiG außerdem die Grundlagen für neue Disease Management Programme (DMP) - strukturierte Behandlungsprogramme für chronisch Kranke. Das Institut trägt so dazu bei, die medizinische Versorgung in Deutschland zu verbesser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erzeit gliedert sich das IQWiG in acht Ressorts. Leiter des Instituts ist Prof. Dr. med. Peter T. Sawicki. Er trat sein Amt zum 1. September 2004 an. </a:t>
            </a:r>
            <a:endParaRPr b="0" lang="en-US" sz="1600" spc="-1" strike="noStrike">
              <a:solidFill>
                <a:srgbClr val="000000"/>
              </a:solidFill>
              <a:latin typeface="Times New Roman"/>
            </a:endParaRPr>
          </a:p>
        </p:txBody>
      </p:sp>
      <p:sp>
        <p:nvSpPr>
          <p:cNvPr id="56" name=""/>
          <p:cNvSpPr/>
          <p:nvPr/>
        </p:nvSpPr>
        <p:spPr>
          <a:xfrm>
            <a:off x="2743200" y="83808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bstdarstellung</a:t>
            </a:r>
            <a:endParaRPr b="0" lang="en-US" sz="2400" spc="-1" strike="noStrike">
              <a:solidFill>
                <a:srgbClr val="000000"/>
              </a:solidFill>
              <a:latin typeface="Times New Roman"/>
            </a:endParaRPr>
          </a:p>
        </p:txBody>
      </p:sp>
      <p:sp>
        <p:nvSpPr>
          <p:cNvPr id="57" name=""/>
          <p:cNvSpPr/>
          <p:nvPr/>
        </p:nvSpPr>
        <p:spPr>
          <a:xfrm>
            <a:off x="3048120" y="22860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ww.iqwig.de/</a:t>
            </a:r>
            <a:endParaRPr b="0" lang="en-US" sz="2400" spc="-1" strike="noStrike">
              <a:solidFill>
                <a:srgbClr val="000000"/>
              </a:solidFill>
              <a:latin typeface="Times New Roman"/>
            </a:endParaRPr>
          </a:p>
        </p:txBody>
      </p:sp>
      <p:sp>
        <p:nvSpPr>
          <p:cNvPr id="58" name=""/>
          <p:cNvSpPr/>
          <p:nvPr/>
        </p:nvSpPr>
        <p:spPr>
          <a:xfrm>
            <a:off x="685800" y="5670720"/>
            <a:ext cx="7010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nteressant zum Thema</a:t>
            </a:r>
            <a:r>
              <a:rPr b="0" lang="de-DE" sz="2000" spc="-1" strike="noStrike">
                <a:solidFill>
                  <a:srgbClr val="000000"/>
                </a:solidFill>
                <a:latin typeface="Times New Roman"/>
              </a:rPr>
              <a:t>: www.stern.de/blog/42_pharmablog/archive/454_prof_sawicki-der_neue_lieblingsfeind.html</a:t>
            </a:r>
            <a:endParaRPr b="0" lang="en-US" sz="2000" spc="-1" strike="noStrike">
              <a:solidFill>
                <a:srgbClr val="000000"/>
              </a:solidFill>
              <a:latin typeface="Times New Roman"/>
            </a:endParaRPr>
          </a:p>
        </p:txBody>
      </p:sp>
      <p:sp>
        <p:nvSpPr>
          <p:cNvPr id="59" name="">
            <a:hlinkClick r:id="rId1"/>
          </p:cNvPr>
          <p:cNvSpPr/>
          <p:nvPr/>
        </p:nvSpPr>
        <p:spPr>
          <a:xfrm>
            <a:off x="8153280" y="59436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13487"/>
                </a:moveTo>
                <a:lnTo>
                  <a:pt x="17806" y="6481"/>
                </a:lnTo>
                <a:lnTo>
                  <a:pt x="17806" y="204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1:46:06Z</dcterms:created>
  <dc:creator>h439090</dc:creator>
  <dc:description/>
  <dc:language>en-US</dc:language>
  <cp:lastModifiedBy>h439090</cp:lastModifiedBy>
  <dcterms:modified xsi:type="dcterms:W3CDTF">2006-12-19T13:01:00Z</dcterms:modified>
  <cp:revision>7</cp:revision>
  <dc:subject/>
  <dc:title>PowerPoint-Präsentation</dc:title>
</cp:coreProperties>
</file>