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6D651-AAC6-4387-98BD-1C9864F1E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9EC4-01A7-4539-867A-05AB0A969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95184-4324-4BE4-8589-578EB0010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4E635-74B4-4115-8582-A940E6D31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05F6F-A69A-4030-99CE-76E626C51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064E3-F805-4ECC-8CF6-F2350296B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8AE4E-8E02-460A-BD84-DD3E8345E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12F78-CEB5-4D4C-8C87-B094754F8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4686D-53A2-4C68-A45F-375DDD713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CAFDB-CAFE-4AE4-817D-49C53D96E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02443-A62F-4AF3-82E9-BA2D4CC20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7FC9A-3B3E-4CE4-AF87-2A5008B91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B8DC-EBB1-4CBF-B24C-5CCBB7E516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Das%20GKV-Leistungsrech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3880" y="2608200"/>
            <a:ext cx="6172200" cy="17474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kur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ordnung über unwirtschaftliche Arzneimittel in der gesetzlichen Krankenversicherung v.</a:t>
            </a:r>
            <a:r>
              <a:rPr b="1" lang="en-US" sz="2400" spc="-1" strike="noStrike">
                <a:solidFill>
                  <a:srgbClr val="000000"/>
                </a:solidFill>
                <a:latin typeface="Tahoma"/>
              </a:rPr>
              <a:t> </a:t>
            </a:r>
            <a:r>
              <a:rPr b="0" lang="en-US" sz="2400" spc="-1" strike="noStrike">
                <a:solidFill>
                  <a:srgbClr val="000000"/>
                </a:solidFill>
                <a:latin typeface="Tahoma"/>
              </a:rPr>
              <a:t>21.02.199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776160"/>
            <a:ext cx="8610480" cy="4810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uf Grund des § 34 Abs. 3 des Fünften Buches Sozialgesetzbuch (Artikel 1 des Gesetzes vom 20. Dezember 1988, BGBl. I S. 2477) wird im Einvernehmen mit dem Bundesminister für Jugend, Familie, Frauen und Gesundheit und dem Bundesminister für Wirtschaft verordnet:</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 1 Unwirtschaftliche Arzneimittel mit nicht erforderlichen Bestandteilen</a:t>
            </a:r>
            <a:r>
              <a:rPr b="0" lang="de-DE"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1) Von der Versorgung nach § 31 Abs. 1 des Fünften Buches Sozialgesetzbuch sind Arzneimittel als unwirtschaftlich ausgeschlossen, die für das Therapieziel oder zur Minderung von Risiken nicht erforderliche Bestandteile enthalten. Dies sind Arzneimittel, die einen oder mehrere der in der Anlage 1 genannten arzneilich wirksamen Bestandteile enthalten und, wie in der Anlage 1 beschrieben, mit anderen arzneilich wirksamen Bestandteilen kombiniert sind. Satz 1 gilt nicht für Lokalanaesthetika-Zusätze in Zubereitungen für Injektion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2) Ausgeschlossen sind ferner Arzneimittel mit einem oder mehreren der in der Anlage 2 genannten arzneilich wirksamen Bestandteile für die in dieser Anlage bezeichnete Therapierichtung, wenn sie neben diesen Bestandteilen weitere arzneilich wirksame Bestandteile enthalt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 2 Unwirtschaftliche Arzneimittel mit einer Vielzahl von arzneilich wirksamen Bestandteilen</a:t>
            </a:r>
            <a:r>
              <a:rPr b="0" lang="de-DE"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1) Von der Versorgung nach § 31 Abs. 1 des Fünften Buches Sozialgesetzbuch sind Arzneimittel als unwirtschaftlich ausgeschlossen, deren Wirkungen wegen der Vielzahl der enthaltenen arzneilich wirksamen Bestandteile nicht mit ausreichender Sicherheit beurteilt werden können. Dies sind Arzneimittel, die mehr als drei arzneilich wirksame Bestandteile enthalt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304920"/>
            <a:ext cx="8839440" cy="58950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2) Absatz 1 gilt nicht für</a:t>
            </a:r>
            <a:endParaRPr b="0" lang="en-US" sz="1400" spc="-1" strike="noStrike">
              <a:solidFill>
                <a:srgbClr val="000000"/>
              </a:solidFill>
              <a:latin typeface="Times New Roman"/>
            </a:endParaRPr>
          </a:p>
          <a:p>
            <a:pP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	</a:t>
            </a:r>
            <a:r>
              <a:rPr b="0" lang="de-DE" sz="1400" spc="-1" strike="noStrike">
                <a:solidFill>
                  <a:srgbClr val="000000"/>
                </a:solidFill>
                <a:latin typeface="Verdana"/>
              </a:rPr>
              <a:t>1.  Arzneimittel als ausschließlich homöopathische oder anthroposophische Zubereitungen </a:t>
            </a:r>
            <a:r>
              <a:rPr b="0" lang="de-DE" sz="1400" spc="-1" strike="noStrike">
                <a:solidFill>
                  <a:srgbClr val="000000"/>
                </a:solidFill>
                <a:latin typeface="Verdana"/>
              </a:rPr>
              <a:t>	</a:t>
            </a:r>
            <a:r>
              <a:rPr b="0" lang="de-DE" sz="1400" spc="-1" strike="noStrike">
                <a:solidFill>
                  <a:srgbClr val="000000"/>
                </a:solidFill>
                <a:latin typeface="Verdana"/>
              </a:rPr>
              <a:t>oder mit ausschließlich phytotherapeutischen Bestandteilen,</a:t>
            </a:r>
            <a:endParaRPr b="0" lang="en-US" sz="1400" spc="-1" strike="noStrike">
              <a:solidFill>
                <a:srgbClr val="000000"/>
              </a:solidFill>
              <a:latin typeface="Times New Roman"/>
            </a:endParaRPr>
          </a:p>
          <a:p>
            <a:pP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	</a:t>
            </a:r>
            <a:r>
              <a:rPr b="0" lang="de-DE" sz="1400" spc="-1" strike="noStrike">
                <a:solidFill>
                  <a:srgbClr val="000000"/>
                </a:solidFill>
                <a:latin typeface="Verdana"/>
              </a:rPr>
              <a:t>2.  medizinische Kunststoffe für chirurgische Eingriffe, Biomaterialien, Zahnfüllstoffe, In-</a:t>
            </a:r>
            <a:r>
              <a:rPr b="0" lang="de-DE" sz="1400" spc="-1" strike="noStrike">
                <a:solidFill>
                  <a:srgbClr val="000000"/>
                </a:solidFill>
                <a:latin typeface="Verdana"/>
              </a:rPr>
              <a:t>	</a:t>
            </a:r>
            <a:r>
              <a:rPr b="0" lang="de-DE" sz="1400" spc="-1" strike="noStrike">
                <a:solidFill>
                  <a:srgbClr val="000000"/>
                </a:solidFill>
                <a:latin typeface="Verdana"/>
              </a:rPr>
              <a:t>fusionslösungen, Sera, Impfstoffe und Blutbestandteile,</a:t>
            </a:r>
            <a:endParaRPr b="0" lang="en-US" sz="1400" spc="-1" strike="noStrike">
              <a:solidFill>
                <a:srgbClr val="000000"/>
              </a:solidFill>
              <a:latin typeface="Times New Roman"/>
            </a:endParaRPr>
          </a:p>
          <a:p>
            <a:pP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	</a:t>
            </a:r>
            <a:r>
              <a:rPr b="0" lang="de-DE" sz="1400" spc="-1" strike="noStrike">
                <a:solidFill>
                  <a:srgbClr val="000000"/>
                </a:solidFill>
                <a:latin typeface="Verdana"/>
              </a:rPr>
              <a:t>3.  Arzneimittel, die ausschließlich zur Substitution von Aminosäuren, Vitaminen, Mineral-</a:t>
            </a:r>
            <a:r>
              <a:rPr b="0" lang="de-DE" sz="1400" spc="-1" strike="noStrike">
                <a:solidFill>
                  <a:srgbClr val="000000"/>
                </a:solidFill>
                <a:latin typeface="Verdana"/>
              </a:rPr>
              <a:t>	</a:t>
            </a:r>
            <a:r>
              <a:rPr b="0" lang="de-DE" sz="1400" spc="-1" strike="noStrike">
                <a:solidFill>
                  <a:srgbClr val="000000"/>
                </a:solidFill>
                <a:latin typeface="Verdana"/>
              </a:rPr>
              <a:t>stoffen oder Spurenelementen bestimmt und bei Mangelerkrankungen oder therapiebe-</a:t>
            </a:r>
            <a:r>
              <a:rPr b="0" lang="de-DE" sz="1400" spc="-1" strike="noStrike">
                <a:solidFill>
                  <a:srgbClr val="000000"/>
                </a:solidFill>
                <a:latin typeface="Verdana"/>
              </a:rPr>
              <a:t>	</a:t>
            </a:r>
            <a:r>
              <a:rPr b="0" lang="de-DE" sz="1400" spc="-1" strike="noStrike">
                <a:solidFill>
                  <a:srgbClr val="000000"/>
                </a:solidFill>
                <a:latin typeface="Verdana"/>
              </a:rPr>
              <a:t>dingtem Überbedarf oder zur oralen Rehydratation bei akuten Durchfallerkrankungen not-</a:t>
            </a:r>
            <a:r>
              <a:rPr b="0" lang="de-DE" sz="1400" spc="-1" strike="noStrike">
                <a:solidFill>
                  <a:srgbClr val="000000"/>
                </a:solidFill>
                <a:latin typeface="Verdana"/>
              </a:rPr>
              <a:t>	</a:t>
            </a:r>
            <a:r>
              <a:rPr b="0" lang="de-DE" sz="1400" spc="-1" strike="noStrike">
                <a:solidFill>
                  <a:srgbClr val="000000"/>
                </a:solidFill>
                <a:latin typeface="Verdana"/>
              </a:rPr>
              <a:t>wendig sind.</a:t>
            </a:r>
            <a:endParaRPr b="0" lang="en-US" sz="1400" spc="-1" strike="noStrike">
              <a:solidFill>
                <a:srgbClr val="000000"/>
              </a:solidFill>
              <a:latin typeface="Times New Roman"/>
            </a:endParaRPr>
          </a:p>
          <a:p>
            <a:pPr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 </a:t>
            </a:r>
            <a:r>
              <a:rPr b="1" lang="de-DE" sz="1400" spc="-1" strike="noStrike">
                <a:solidFill>
                  <a:srgbClr val="000000"/>
                </a:solidFill>
                <a:latin typeface="Verdana"/>
              </a:rPr>
              <a:t>§ 3 Unwirtschaftliche Arzneimittel mit nicht nachgewiesenem therapeutischen Nutzen</a:t>
            </a:r>
            <a:r>
              <a:rPr b="0" lang="de-DE"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Von der Versorgung nach § 31 Abs. 1 des Fünften Buches Sozialgesetzbuch sind Arzneimittel als unwirtschaftlich ausgeschlossen, deren therapeutischer Nutzen nicht nachgewiesen ist. Dies sind Arzneimittel, die einen oder mehrere der in der Anlage 2 genannten arzneilich wirksamen Bestandteile enthalten. Der Ausschluss gilt jeweils nur für die in der Anlage 2 bezeichnete Therapierichtung.</a:t>
            </a:r>
            <a:endParaRPr b="0" lang="en-US" sz="1400" spc="-1" strike="noStrike">
              <a:solidFill>
                <a:srgbClr val="000000"/>
              </a:solidFill>
              <a:latin typeface="Times New Roman"/>
            </a:endParaRPr>
          </a:p>
          <a:p>
            <a:pPr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 4 Ausnahmen</a:t>
            </a:r>
            <a:r>
              <a:rPr b="0" lang="de-DE"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ie §§ 1 bis 3 finden keine Anwendung auf Arzneimittel, die seit dem 1. Februar 1987 von der Zulassungsbehörde zugelassen worden sind oder zugelassen werden und für die ein Beitrag jedes arzneilich wirksamen Bestandteils zur positiven Beurteilung des Arzneimittels ausreichend begründet ist.</a:t>
            </a:r>
            <a:endParaRPr b="0" lang="en-US" sz="1400" spc="-1" strike="noStrike">
              <a:solidFill>
                <a:srgbClr val="000000"/>
              </a:solidFill>
              <a:latin typeface="Times New Roman"/>
            </a:endParaRPr>
          </a:p>
          <a:p>
            <a:pPr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 5 Inkrafttreten</a:t>
            </a:r>
            <a:r>
              <a:rPr b="0" lang="de-DE"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iese Verordnung tritt am 1. Juli 1991 in Kraft.</a:t>
            </a:r>
            <a:endParaRPr b="0" lang="en-US" sz="1400" spc="-1" strike="noStrike">
              <a:solidFill>
                <a:srgbClr val="000000"/>
              </a:solidFill>
              <a:latin typeface="Times New Roman"/>
            </a:endParaRPr>
          </a:p>
          <a:p>
            <a:pP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895480" y="152280"/>
            <a:ext cx="335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lage 1 (zu § 1 Abs. 1)</a:t>
            </a:r>
            <a:endParaRPr b="0" lang="en-US" sz="1400" spc="-1" strike="noStrike">
              <a:solidFill>
                <a:srgbClr val="000000"/>
              </a:solidFill>
              <a:latin typeface="Times New Roman"/>
            </a:endParaRPr>
          </a:p>
        </p:txBody>
      </p:sp>
      <p:sp>
        <p:nvSpPr>
          <p:cNvPr id="45" name=""/>
          <p:cNvSpPr/>
          <p:nvPr/>
        </p:nvSpPr>
        <p:spPr>
          <a:xfrm>
            <a:off x="304920" y="609480"/>
            <a:ext cx="8534160" cy="5999400"/>
          </a:xfrm>
          <a:prstGeom prst="rect">
            <a:avLst/>
          </a:prstGeom>
          <a:solidFill>
            <a:srgbClr val="00cc99"/>
          </a:solidFill>
          <a:ln w="0">
            <a:noFill/>
          </a:ln>
        </p:spPr>
        <p:style>
          <a:lnRef idx="0"/>
          <a:fillRef idx="0"/>
          <a:effectRef idx="0"/>
          <a:fontRef idx="minor"/>
        </p:style>
        <p:txBody>
          <a:bodyPr lIns="90000" rIns="90000" tIns="46800" bIns="46800" anchor="t">
            <a:spAutoFit/>
          </a:bodyPr>
          <a:p>
            <a:pPr marL="282600" indent="-282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Chemisch definierte arzneiliche Wirkstoffe, die in fixen Kombinationen (ggf. mit bestimmten Kombinationspartnern) unwirtschaftlich sind:</a:t>
            </a:r>
            <a:endParaRPr b="0" lang="en-US" sz="1600" spc="-1" strike="noStrike">
              <a:solidFill>
                <a:srgbClr val="000000"/>
              </a:solidFill>
              <a:latin typeface="Times New Roman"/>
            </a:endParaRPr>
          </a:p>
          <a:p>
            <a:pPr marL="282600" indent="-282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1. Antibiotika/Chemotherapeutika mit anderen (nicht antimikrobiell wirkenden) arzneilichen Wirkstoffen, soweit diese nicht wirkungsverstärkende, unerwün-schte Wirkungen verhütende oder sekretolytische Effekte hervorrufen; ausge-nommen topisch anzuwendende Arzneimittel,</a:t>
            </a:r>
            <a:endParaRPr b="0" lang="en-US" sz="1600" spc="-1" strike="noStrike">
              <a:solidFill>
                <a:srgbClr val="000000"/>
              </a:solidFill>
              <a:latin typeface="Times New Roman"/>
            </a:endParaRPr>
          </a:p>
          <a:p>
            <a:pPr marL="282600" indent="-282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2. Antiarrhytmika (ausgenommen Kombinationen von Chinidin mit Verapamil),</a:t>
            </a:r>
            <a:endParaRPr b="0" lang="en-US" sz="1600" spc="-1" strike="noStrike">
              <a:solidFill>
                <a:srgbClr val="000000"/>
              </a:solidFill>
              <a:latin typeface="Times New Roman"/>
            </a:endParaRPr>
          </a:p>
          <a:p>
            <a:pPr marL="282600" indent="-282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3.  Hypnotika und Sedativa (z. B. Barbiturate, Benzodiazepine und andere Tran-quillantien) sowie Neuroleptika,</a:t>
            </a:r>
            <a:endParaRPr b="0" lang="en-US" sz="1600" spc="-1" strike="noStrike">
              <a:solidFill>
                <a:srgbClr val="000000"/>
              </a:solidFill>
              <a:latin typeface="Times New Roman"/>
            </a:endParaRPr>
          </a:p>
          <a:p>
            <a:pPr marL="282600" indent="-282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4.  Vitamine mit Analgetika oder Antirheumatika,</a:t>
            </a:r>
            <a:endParaRPr b="0" lang="en-US" sz="1600" spc="-1" strike="noStrike">
              <a:solidFill>
                <a:srgbClr val="000000"/>
              </a:solidFill>
              <a:latin typeface="Times New Roman"/>
            </a:endParaRPr>
          </a:p>
          <a:p>
            <a:pPr marL="282600" indent="-282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5.  die Stoffe Carbocromen, Nicotinsäure, Oxyfedrin und Papaverin,</a:t>
            </a:r>
            <a:endParaRPr b="0" lang="en-US" sz="1600" spc="-1" strike="noStrike">
              <a:solidFill>
                <a:srgbClr val="000000"/>
              </a:solidFill>
              <a:latin typeface="Times New Roman"/>
            </a:endParaRPr>
          </a:p>
          <a:p>
            <a:pPr marL="282600" indent="-282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6.  Chinin,</a:t>
            </a:r>
            <a:endParaRPr b="0" lang="en-US" sz="1600" spc="-1" strike="noStrike">
              <a:solidFill>
                <a:srgbClr val="000000"/>
              </a:solidFill>
              <a:latin typeface="Times New Roman"/>
            </a:endParaRPr>
          </a:p>
          <a:p>
            <a:pPr marL="282600" indent="-282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7.  Corticosteroide (ausgenommen topisch anzuwendende Arzneimittel),</a:t>
            </a:r>
            <a:endParaRPr b="0" lang="en-US" sz="1600" spc="-1" strike="noStrike">
              <a:solidFill>
                <a:srgbClr val="000000"/>
              </a:solidFill>
              <a:latin typeface="Times New Roman"/>
            </a:endParaRPr>
          </a:p>
          <a:p>
            <a:pPr marL="282600" indent="-282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8.  Expectorantien mit Antitussiva,</a:t>
            </a:r>
            <a:endParaRPr b="0" lang="en-US" sz="1600" spc="-1" strike="noStrike">
              <a:solidFill>
                <a:srgbClr val="000000"/>
              </a:solidFill>
              <a:latin typeface="Times New Roman"/>
            </a:endParaRPr>
          </a:p>
          <a:p>
            <a:pPr marL="282600" indent="-282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9.  Herzglykoside,</a:t>
            </a:r>
            <a:endParaRPr b="0" lang="en-US" sz="1600" spc="-1" strike="noStrike">
              <a:solidFill>
                <a:srgbClr val="000000"/>
              </a:solidFill>
              <a:latin typeface="Times New Roman"/>
            </a:endParaRPr>
          </a:p>
          <a:p>
            <a:pPr marL="282600" indent="-282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10.  Methylxanthine,</a:t>
            </a:r>
            <a:endParaRPr b="0" lang="en-US" sz="1600" spc="-1" strike="noStrike">
              <a:solidFill>
                <a:srgbClr val="000000"/>
              </a:solidFill>
              <a:latin typeface="Times New Roman"/>
            </a:endParaRPr>
          </a:p>
          <a:p>
            <a:pPr marL="282600" indent="-282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11.  Lithiumsalze,</a:t>
            </a:r>
            <a:endParaRPr b="0" lang="en-US" sz="1600" spc="-1" strike="noStrike">
              <a:solidFill>
                <a:srgbClr val="000000"/>
              </a:solidFill>
              <a:latin typeface="Times New Roman"/>
            </a:endParaRPr>
          </a:p>
          <a:p>
            <a:pPr marL="282600" indent="-282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12.  Kaliumsalze mit Antihypertonik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133720" y="22860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lage 2 (zu § 1 Abs. 2 und § 3) Auszug </a:t>
            </a:r>
            <a:endParaRPr b="0" lang="en-US" sz="1600" spc="-1" strike="noStrike">
              <a:solidFill>
                <a:srgbClr val="000000"/>
              </a:solidFill>
              <a:latin typeface="Times New Roman"/>
            </a:endParaRPr>
          </a:p>
        </p:txBody>
      </p:sp>
      <p:sp>
        <p:nvSpPr>
          <p:cNvPr id="47" name=""/>
          <p:cNvSpPr/>
          <p:nvPr/>
        </p:nvSpPr>
        <p:spPr>
          <a:xfrm>
            <a:off x="2362320" y="914400"/>
            <a:ext cx="4419360" cy="55987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  Chemisch definierte Stoff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etarso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etylmethionin zur Anwendung bei Lebererkrankung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etylsalicylsäure zur rektalen Anwendu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etylsalicylsäure plus Diazepam in fixer Kombin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limemazi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llobarbit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luminium-bis(acetylsalicylat)-hydroxi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luminiumclofibr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luminiumglycin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mbaz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mbutoniumbromi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mfetamini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minoacridi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4-Aminobenzoesäure, Piperazinsalz</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mmoniumiodi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304920"/>
            <a:ext cx="4114800" cy="37857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2.  Stoffgemische, Enzyme und andere Zubereitungen aus Naturstoffen</a:t>
            </a:r>
            <a:r>
              <a:rPr b="0" lang="de-DE"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acillus-cereus-Spor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acillus firmu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ienenköniginnenfuttersaf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Catalase zur systemischen Anwendu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Chondroitinsulfat-Natrium zur systemischen Anwendu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Heilwässer, akratisch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Heilwässer, natriumchloridhaltig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Hirschhornspän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Kallidinogena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Knochenmark vom Rind in fixen Kombinationen mit anderen Organen (ausgenommen topische Anwendung)</a:t>
            </a:r>
            <a:endParaRPr b="0" lang="en-US" sz="1200" spc="-1" strike="noStrike">
              <a:solidFill>
                <a:srgbClr val="000000"/>
              </a:solidFill>
              <a:latin typeface="Times New Roman"/>
            </a:endParaRPr>
          </a:p>
        </p:txBody>
      </p:sp>
      <p:sp>
        <p:nvSpPr>
          <p:cNvPr id="49" name=""/>
          <p:cNvSpPr/>
          <p:nvPr/>
        </p:nvSpPr>
        <p:spPr>
          <a:xfrm>
            <a:off x="228600" y="4572000"/>
            <a:ext cx="4114800" cy="18403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3.  Infusionslösung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Aminosäurelösungen aus essentiellen Aminosäuren plus Histid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lutkonserve human (ausgenommen Eigenblutkonserven und Frischblut zur Austauschtransfus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Elektrolytlösung (Gesamtkationengehalt 152,5 mmol/l) mit Xylitol 2%</a:t>
            </a:r>
            <a:endParaRPr b="0" lang="en-US" sz="1200" spc="-1" strike="noStrike">
              <a:solidFill>
                <a:srgbClr val="000000"/>
              </a:solidFill>
              <a:latin typeface="Times New Roman"/>
            </a:endParaRPr>
          </a:p>
        </p:txBody>
      </p:sp>
      <p:sp>
        <p:nvSpPr>
          <p:cNvPr id="50" name=""/>
          <p:cNvSpPr/>
          <p:nvPr/>
        </p:nvSpPr>
        <p:spPr>
          <a:xfrm>
            <a:off x="4572000" y="304920"/>
            <a:ext cx="4343400" cy="36115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4. Badezusätze und Bä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Angelikawurze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Aprikosenextrak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aldrianöl, künstlich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asilikumkrau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enediktenkrau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ergamottö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irkenblätt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isabolol-Racem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lasenta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orneo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ornylacet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rennesselkraut</a:t>
            </a:r>
            <a:endParaRPr b="0" lang="en-US" sz="1200" spc="-1" strike="noStrike">
              <a:solidFill>
                <a:srgbClr val="000000"/>
              </a:solidFill>
              <a:latin typeface="Times New Roman"/>
            </a:endParaRPr>
          </a:p>
        </p:txBody>
      </p:sp>
      <p:sp>
        <p:nvSpPr>
          <p:cNvPr id="51" name=""/>
          <p:cNvSpPr/>
          <p:nvPr/>
        </p:nvSpPr>
        <p:spPr>
          <a:xfrm>
            <a:off x="4572000" y="4114800"/>
            <a:ext cx="4343400" cy="23090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5.  Arzneimittel der besonderen Therapierichtung Phytotherapie</a:t>
            </a:r>
            <a:r>
              <a:rPr b="0" lang="de-DE"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Aconitum napellus (Blauer Eisenhu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Alchemilla alpinae herba (Alpenfrauenmantelkrau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Altheae radix (Eibischwurzel) als Sirup zur Anwendung bei Magenschleimhautentzündu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Ammeos visnagae fructus (Ammi visnaga-Früch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Anethi herba (Dillkrau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Angelicae fructus, -herba (Angelikafrüchte, -krau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514600" y="380880"/>
            <a:ext cx="4191120" cy="53856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6.  Arzneimittel der besonderen Therapierichtung Homöopathi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brus precatoriu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er negund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etonu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hillea filipendulin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idum alpha-ketoglutaricu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idum ascorbicu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idum hypophosphorosu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idum molybdaenicu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onitum anthor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onitum napellus e radi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corus calamu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donis aestivali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esculinu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esculus hippocastanum e floribu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juga reptans</a:t>
            </a:r>
            <a:endParaRPr b="0" lang="en-US" sz="1400" spc="-1" strike="noStrike">
              <a:solidFill>
                <a:srgbClr val="000000"/>
              </a:solidFill>
              <a:latin typeface="Times New Roman"/>
            </a:endParaRPr>
          </a:p>
        </p:txBody>
      </p:sp>
      <p:sp>
        <p:nvSpPr>
          <p:cNvPr id="53" name="">
            <a:hlinkClick r:id="rId1"/>
          </p:cNvPr>
          <p:cNvSpPr/>
          <p:nvPr/>
        </p:nvSpPr>
        <p:spPr>
          <a:xfrm>
            <a:off x="7086600" y="60958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12:22:55Z</dcterms:created>
  <dc:creator>h439090</dc:creator>
  <dc:description/>
  <dc:language>en-US</dc:language>
  <cp:lastModifiedBy>h439090</cp:lastModifiedBy>
  <dcterms:modified xsi:type="dcterms:W3CDTF">2006-12-05T12:42:07Z</dcterms:modified>
  <cp:revision>5</cp:revision>
  <dc:subject/>
  <dc:title>PowerPoint-Präsentation</dc:title>
</cp:coreProperties>
</file>