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7344-0442-40E6-91DB-E866892D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9976-FCAA-4470-AC5D-4EDB06F2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02A4-381B-49CC-BE99-9C4CD254B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ABD4-8D4C-478C-87F5-CEA4F70B9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6F2A-C342-4675-BA1D-33FFFCEA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245B-29B0-4B86-AF65-1CF5BB57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7B2D-1601-4CC4-8BE1-527129C9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52D7-322A-49B0-8755-19FA6990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23FC-B7C5-404D-9331-1C462921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245E-33F1-4703-9D3E-826912FA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CBF9-A369-4835-9140-DFBFAD36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6AC1-4859-4A6E-9651-8598AE40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5A9B-9497-49FE-8140-1B6C1F4BE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Das%20GKV-Leistungsrecht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2532240"/>
            <a:ext cx="6248520" cy="2113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xk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erordnungsfähigkeit von Aminosäuremischungen, Eiweißhydrolysaten, Elementardiäten und Sondennahru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304920"/>
            <a:ext cx="8763120" cy="5987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. Verordnungsfähigkeit von Aminosäuremischungen, Eiweißhydrolysaten, Elementardiäten und Sondennah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Enterale Ernähru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5.1 Umfang des Anspruc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bensmittel, Nahrungsergänzungsmittel, so genannte Krankenkost und diätetische Lebensmittel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chließlich Produkte für Säuglinge oder Kleinkinder sind von der Versorgung nach § 27 SGB V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geschlossen. Dies gilt nicht für Aminosäuremischungen, Eiweißhydrolysate, Elementardiäten und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ndennahrung, soweit sie nach den Bestimmungen dieser Richtlinie in medizinisch notwendigen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ällen ausnahmsweise verordnungsfähig sind (§ 31 Abs. 1 Satz 2 SGB V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5.2 Definitionen der Produktgruppen gemäß § 31 Abs. 1 Satz 2 SGB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5.2.1 Aminosäuremischungen Aminosäuremischungen sind diätetische Lebensmittel für besonder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dizinische Zwecke (bilanzierte Diäten im Sinne der Diätverordnung). Sie bestehen überwiegend aus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qualitativ und quantitativ definierten Gemischen von Aminosäuren und sind nicht für die Verwendung als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zige Nahrungsquelle geeignet. Entsprechend der Zweckbestimmung können gesetzlich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geschriebene Mineralstoffe, Vitamine, Spurenelemente sowie zugelassene Zusatz- und Aromastoff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 Kohlenhydrate als Füll- oder Geschmacksstoffe enthalten sein. Soweit dies medizinisch notwendig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st, können Aminosäuremischungen auch Fette und Kohlenhydrate enthalt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5.2.2 Eiweißhydrolys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weißhydrolysate sind diätetische Lebensmittel für besondere medizinische Zwecke (bilanzierte Diäten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 Sinne der Diätverordnung), bestehend aus abgebauten Proteinen (niedermolekularen Proteinkom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nenten in Form von freien Aminosäuren, Oligopeptiden [2-10 Aminosäuren] und Peptiden). Sie sind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icht für die Verwendung als einzige Nahrungsquelle geeignet. Enthalten sein können entsprechend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hrer Zweckbestimmung gesetzlich vorgeschriebene Mineralstoffe, Vitamine, Spurenelemente sowi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elassene Zusatz- und Aromastoffe und Kohlenhydrate als Füll- oder Geschmacksstoff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320" y="125280"/>
            <a:ext cx="8915400" cy="6626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5.2.3 Elementardiä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lementardiäten sind diätetische Lebensmittel für besondere medizinische Zwecke (bilanzierte Diäten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 Sinne der Diätverordnung), die – unabhängig von der Molekulargröße – oral zuzuführende Gemisch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 Proteinen (auch hochhydrolysierte Proteine), Aminosäuren, Kohlenhydraten, Fetten, Mineralstoffen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urenelementen und Vitaminen enthalten, und die als einzige Nahrungsquelle geeignet sind (so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nannte Trinknahrung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5.2.4 Sondennahr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ndennahrungen sind diätetische Lebensmittel für besondere medizinische Zwecke (bilanzierte Diäten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 Sinne der Diätverordnung), die bei einer individuell gewählten Zusammensetzung und Dosierung als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zige Nahrungsquelle zur Ernährung über die Sonde bestimmt si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5.2.5 Ergänzende Bestimm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ordnete Produkte müssen der Legaldefinition für diätetische Lebensmittel (Diätverordnung)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sprechen und sich rechtmäßig auf dem deutschen Markt befinden. Produkte, die nicht den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genannten Definitionen entsprechen, z. B. weil sie nur Kohlenhydrate oder Fette enthalten, sind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Aminosäuremischungen, Eiweißhydrolysate, Elementardiäten und Sondennahrung im Sinn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ser Richtlinie und des § 31 Abs. 1 Satz 2 SGB V. Dies gilt nicht für ergänzende bilanzierte Diäten zur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handlung von angeborenen, seltenen Defekten im Kohlenhydrat- und Fettstoffwechsel und anderen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ätpflichtigen Erkrankungen, die unbehandelt zu schwerer geistiger oder körperlicher Beeinträchtigung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ühren und bei denen eine diätetische Intervention mit ergänzenden bilanzierten Diäten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dizinisch notwendig ist. Die verordnende Ärztin oder der verordnende Arzt hat für jeden Defekttyp zu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üfen, ob eine Behandlung durch diese Produkte medizinisch notwendig ist oder ob symptomatisch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der eigenverantwortliche Maßnahmen Priorität hab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5.3 Medizinisch notwendige Fä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erale Ernährung ist bei fehlender oder eingeschränkter Fähigkeit zur ausreichenden normalen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nährung verordnungsfähig, wenn eine Modifizierung der normalen Ernährung oder sonstige ärztliche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flegerische oder ernährungstherapeutische Maßnahmen zur Verbesserung der Ernährungssitua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icht ausreichen. Enterale Ernährung und sonstige Maßnahmen zur Verbesserung der  Ernährungs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320" y="152280"/>
            <a:ext cx="8991360" cy="6738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uation schließen einander nicht aus, sondern sind erforderlichenfalls miteinander zu kombinieren. Di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handelnde Ärztin oder der behandelnde Arzt hat bei der Verordnung von enteraler Ernährung zu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üfen, ob insbesondere die nachfolgenden Maßnahmen zur Verbesserung der Ernährungssituation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eignet sind, eine ausreichende normale Ernährung auch ohne Einsatz von enteraler Ernährung zu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währleisten, und diese gegebenenfalls zu veranlasse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 Bei unzureichender Energiezufuhr ist eine kalorische Anreicherung der Nahrung mit Hilf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türlicher Lebensmittel (z. B. Butter, Sahne, Vollmilch, Fruchtsäfte, Öle, Nahrungsmittel mit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r Energie- und Nährstoffdichte) sowie ein erweitertes Nahrungsangebot mit kalorien und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ährstoffreichen Zwischenmahlzeiten zu veranlass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 Restriktive Diäten sind zu überprüf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 Bei Schluckstörungen ist auf eine geeignete Lagerung der Patientin oder des Patienten sowi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e angemessene Konsistenz der Nahrung zu achten und die Verordnung von Heilmitteln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Anbahnung und Förderung des Schluckvorgangs als Teil der Stimm-, Sprech- und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rachbehandlung [Logopädie] oder sensomotorisch-perzeptive Behandlung zur Verbesserung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r Mund- und Essmotorik als Teil der Ergotherapie) zu prüf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 Verordnete Medikamente sind unter dem Gesichtspunkt negativer Effekte auf den Appetit und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n Ernährungszustand kritisch zu überprüf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 Es sind geeignete pflegerische Maßnahmen zur Sicherung einer ausreichenden Trinkmenge zu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anlass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 Kaustörungen sind durch Mundpflege, Mundhygiene, notwendige Zahnbehandlungen oder 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anierungen und – soweit erforderlich – funktionsfähige Zahnprothesen zu beheb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 Motorische Probleme beim Zerkleinern der Nahrung sind, soweit erforderlich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urch di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ordnung von ergotherapeutischem Esstraining und entsprechende Versorgung mit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eignetem Besteck zu beheb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 Bei Beeinträchtigungen der geistigen und psychischen Gesundheit stehen insbesondere di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wendung beim Essen mit Aufforderung zum Essen sowie geduldiges Anreichen der Nahrung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 Mittelpunk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28600"/>
            <a:ext cx="9144000" cy="6219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 Soziale Maßnahmen können erste Priorität haben, hierzu gehört die Beratung der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gehörigen, das Organisieren von Besuchsdiensten, Unterstützung beim Einkauf und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weit erforderlich, die Lieferung von vorbereiteten Produkt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5.4 Produktspezifikation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5.4.1 Standardproduk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ndardprodukte im Sinne der Richtlinie sind Elementardiäten und Sondennahrungen, die bei der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überwiegenden Zahl der Indikationen für enterale Ernährung einsetzbar si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5.4.2 Spezialproduk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zialprodukte im Sinne der Richtlinie sind Elementardiäten und Sondennahrungen, di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rankheitsadaptiert für bestimmte Indikationen ausgewiesen si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5.4.3 Verordnungsfähige Standard- und Spezialproduk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gegebener Indikation erfolgt die Versorgung mit Elementardiäten und Sondennahrung in Form von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orm- oder hochkalorischen Standardprodukten (bilanzierte Diäten); hierzu zählen auch gegebenen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 Produkte mit Anpassung für Niereninsuffiziente, altersadaptierte Produkte für Säuglinge und Kleinkinde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 Elementardiäten (so genannte Trinknahrung) mit hochhydrolysierten Eiweißen oder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minosäuremischungen für Säuglinge und Kleinkinder mit Kuhmilcheiweißallergie oder Patientinnen und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tienten mit multiplen Nahrungsmittelallergie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 niedermolekulare oder speziell mit mittelkettigen Triglyzeriden (MCTFette) angereicherte Produkte bei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tientinnen und Patienten mit dokumentierten Fettverwertungsstörungen oder Malassimilitations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yndromen (z. B. Kurzdarmsyndrom, AIDSassoziierten Diarrhöen, Mukoviszidose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 defektspezifische Aminosäuremischungen (auch fett- und kohlenhydrathaltige Produkte) für Patientinnen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 Patienten mit Phenylketonurie oder weiteren angeborenen Enzymdefekten, die mit speziell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minosäuremischungen behandelt werde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80880"/>
            <a:ext cx="9144000" cy="6562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 spezielle Produkte für die Behandlung von Patientinnen und Patienten mit seltenen angeborenen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fekten im Kohlehydrat- oder Fettstoffwechsel (je nach Krankheitsbild auch kohlenhydrat- oder fettfrei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zelsupplemente) sowie für weitere definierte diätpflichtige Erkrankung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 ketogene Diäten für Patientinnen und Patienten mit Epilepsien, wenn trotz optimierter antikonvulsiver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rapie eine ausreichende Anfallskontrolle nicht geling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5.4.4 Nicht verordnungsfähige Spezialproduk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Verordnung von krankheitsadaptierten Spezialprodukten ist ausgeschlossen, soweit es sich um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dukte handelt, die speziell für die Indikation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 chronische Herz-Kreislauf- oder Ateminsuffizienz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 Dekubitusprophylaxe oder -behandlung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 Diabetes mellitu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 Geriatri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 Stützung des Immunsystem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 Tumorpatien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geboten werd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5.4.5 Produkte, die aufgrund ihrer Zusammensetzung nicht verordnungsfähig si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dukte, die aufgrund ihrer Zusammensetzung nicht verordnungsfähig sin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 Elementardiäten und Sondennahrung, die über die gesetzlichen Anforderungen hinaus mit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eralstoffen, Spurenelementen oder Vitaminen angereichert sin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 hypokalorische Lösungen (Energiedichte unter 1,0 kcal/ml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33520"/>
            <a:ext cx="9144000" cy="2030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 sonstige Hydrolysatnahrungen (nicht hochhydrolysiert zum Einsatz bei Kuhmilcheiweißallergie) und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mielementarnahrungen (auch Hahypoallergene Spezialnahrung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5.4.6 Produkte, die nicht verordnungsfähig sind, soweit damit Mehrkosten verbunden si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erzu zählen Produk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 die speziell mit Ballaststoffen angereichert sin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 die speziell mit mittelkettigen Triglyzeriden (MCT-Fette) angereichert sind; dies gilt nicht, wenn ein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okumentierte Fettverwertungsstörung vorlieg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"/>
          </p:cNvPr>
          <p:cNvSpPr/>
          <p:nvPr/>
        </p:nvSpPr>
        <p:spPr>
          <a:xfrm>
            <a:off x="6934320" y="56386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13:42:35Z</dcterms:created>
  <dc:creator>h439090</dc:creator>
  <dc:description/>
  <dc:language>en-US</dc:language>
  <cp:lastModifiedBy>h439090</cp:lastModifiedBy>
  <dcterms:modified xsi:type="dcterms:W3CDTF">2008-04-07T12:35:22Z</dcterms:modified>
  <cp:revision>3</cp:revision>
  <dc:subject/>
  <dc:title>PowerPoint-Präsentation</dc:title>
</cp:coreProperties>
</file>