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80239-ADC9-4B82-BC4E-DE77AE648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BE3B-84A3-4D53-B26E-6E724772D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C2C25-806E-42F1-BCF6-DD7908E82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659ED-D845-4489-8C2B-F5DE086F3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7CD5-678D-4E35-9F4E-71D771D1B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0A4DA-5E9E-4539-867A-D7A2D5209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385EB-DA21-4D23-A0E8-78EC54F2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FD603-0739-42B9-AED3-B272BDC78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B8BC6-7BE9-4E14-A579-C176C0921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853D8-5CCA-4387-AFE0-131EBA99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4F88-2252-4AA2-A2DA-A42E0ED29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BE96-9E0C-47CF-8AE3-E9C936C72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3714-C7D0-4249-95EC-572F843BF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52480" y="2805120"/>
            <a:ext cx="5639040" cy="1015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kur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ankenhausbehandlu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533520"/>
            <a:ext cx="8686800" cy="367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115a SGB V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or- und nachstationäre Behandlung im Krankenhau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Das Krankenhaus kann bei Verordnung von Krankenhausbehandlung Versicherte in medizinisch geeigneten Fällen ohne Unterkunft und Verpflegung behandeln, um </a:t>
            </a:r>
            <a:br>
              <a:rPr sz="1800"/>
            </a:br>
            <a:br>
              <a:rPr sz="1800"/>
            </a:br>
            <a:r>
              <a:rPr b="0" lang="en-US" sz="1800" spc="-1" strike="noStrike">
                <a:solidFill>
                  <a:srgbClr val="000000"/>
                </a:solidFill>
                <a:latin typeface="Arial"/>
                <a:ea typeface="Arial"/>
              </a:rPr>
              <a:t>1.  die Erforderlichkeit einer vollstationären Krankenhausbehandlung zu klären oder die vollstationäre Krankenhausbehandlung vorzubereiten (vorstationäre Behandlung) oder </a:t>
            </a:r>
            <a:br>
              <a:rPr sz="1800"/>
            </a:br>
            <a:br>
              <a:rPr sz="1800"/>
            </a:br>
            <a:r>
              <a:rPr b="0" lang="en-US" sz="1800" spc="-1" strike="noStrike">
                <a:solidFill>
                  <a:srgbClr val="000000"/>
                </a:solidFill>
                <a:latin typeface="Arial"/>
                <a:ea typeface="Arial"/>
              </a:rPr>
              <a:t>2.  im Anschluss an eine vollstationäre Krankenhausbehandlung den Behandlungserfolg zu sichern oder zu festigen (nachstationäre Behandlung).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685800"/>
            <a:ext cx="8458200" cy="558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2) Die vorstationäre Behandlung ist auf längstens drei Behandlungstage inner-halb von fünf Tagen vor Beginn der stationären Behandlung begrenzt. Die nach-stationäre Behandlung darf sieben Behandlungstage innerhalb von 14 Tagen, bei Organübertragungen nach § 9 des Transplantationsgesetzes</a:t>
            </a:r>
            <a:r>
              <a:rPr b="0" lang="de-DE" sz="1800" spc="-1" strike="noStrike">
                <a:solidFill>
                  <a:srgbClr val="0000ff"/>
                </a:solidFill>
                <a:latin typeface="Arial"/>
                <a:ea typeface="Arial"/>
              </a:rPr>
              <a:t> </a:t>
            </a:r>
            <a:r>
              <a:rPr b="0" lang="de-DE" sz="1800" spc="-1" strike="noStrike">
                <a:solidFill>
                  <a:srgbClr val="000000"/>
                </a:solidFill>
                <a:latin typeface="Arial"/>
                <a:ea typeface="Arial"/>
              </a:rPr>
              <a:t>drei Monate nach Beendigung der stationären Krankenhausbehandlung nicht überschreiten. Die Frist von 14 Tagen oder drei Monaten kann in medizinisch begründeten Einzel-fällen im Einvernehmen mit dem einweisenden Arzt verlängert werden. Kontroll-untersuchungen bei Organübertragungen nach § 9 des Transplantationsgesetzes</a:t>
            </a:r>
            <a:r>
              <a:rPr b="0" lang="de-DE" sz="1800" spc="-1" strike="noStrike">
                <a:solidFill>
                  <a:srgbClr val="0000ff"/>
                </a:solidFill>
                <a:latin typeface="Arial"/>
                <a:ea typeface="Arial"/>
              </a:rPr>
              <a:t> </a:t>
            </a:r>
            <a:r>
              <a:rPr b="0" lang="de-DE" sz="1800" spc="-1" strike="noStrike">
                <a:solidFill>
                  <a:srgbClr val="000000"/>
                </a:solidFill>
                <a:latin typeface="Arial"/>
                <a:ea typeface="Arial"/>
              </a:rPr>
              <a:t>dürfen vom Krankenhaus auch nach Beendigung der nachstationären Behand-lung fortgeführt werden, um die weitere Krankenbehandlung oder Maßnahme der Qualitätssicherung wissenschaftlich zu begleiten oder zu unterstützen. Eine not-wendige ärztliche Behandlung außerhalb des Krankenhauses während der vor- und nachstationären Behandlung wird im Rahmen des Sicherstellungsauftrags durch die an der vertragsärztlichen Versorgung teilnehmenden Ärzte gewähr-leistet. Das Krankenhaus hat den einweisenden Arzt über die vor- oder nach-stationäre Behandlung sowie diesen und die an der weiteren Krankenbehandlung jeweils beteiligten Ärzte über die Kontrolluntersuchungen und deren Ergebnis unverzüglich zu unterrichten. Die Sätze 2 bis 6 gelten für die Nachbetreuung von Organspendern nach § 8 Abs. 3 Satz 1 des Transplantationsgesetzes</a:t>
            </a:r>
            <a:r>
              <a:rPr b="0" lang="de-DE" sz="1800" spc="-1" strike="noStrike">
                <a:solidFill>
                  <a:srgbClr val="0000ff"/>
                </a:solidFill>
                <a:latin typeface="Arial"/>
                <a:ea typeface="Arial"/>
              </a:rPr>
              <a:t> </a:t>
            </a:r>
            <a:r>
              <a:rPr b="0" lang="de-DE" sz="1800" spc="-1" strike="noStrike">
                <a:solidFill>
                  <a:srgbClr val="000000"/>
                </a:solidFill>
                <a:latin typeface="Arial"/>
                <a:ea typeface="Arial"/>
              </a:rPr>
              <a:t>entsprechen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76320"/>
            <a:ext cx="8686800" cy="3763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115b SGB V </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mbulantes Operieren im Krankenhau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Die Spitzenverbände der Krankenkassen gemeinsam, die Deutsche Krankenhausgesellschaft oder die Bundesverbände der Krankenhausträger gemeinsam und die Kassenärztlichen Bundesvereinigungen vereinbaren </a:t>
            </a:r>
            <a:br>
              <a:rPr sz="1800"/>
            </a:br>
            <a:br>
              <a:rPr sz="1800"/>
            </a:br>
            <a:r>
              <a:rPr b="0" lang="en-US" sz="1800" spc="-1" strike="noStrike">
                <a:solidFill>
                  <a:srgbClr val="000000"/>
                </a:solidFill>
                <a:latin typeface="Arial"/>
                <a:ea typeface="Arial"/>
              </a:rPr>
              <a:t>1.  einen Katalog ambulant durchführbarer Operationen und sonstiger stationsersetzender Eingriffe, </a:t>
            </a:r>
            <a:br>
              <a:rPr sz="1800"/>
            </a:br>
            <a:br>
              <a:rPr sz="1800"/>
            </a:br>
            <a:r>
              <a:rPr b="0" lang="en-US" sz="1800" spc="-1" strike="noStrike">
                <a:solidFill>
                  <a:srgbClr val="000000"/>
                </a:solidFill>
                <a:latin typeface="Arial"/>
                <a:ea typeface="Arial"/>
              </a:rPr>
              <a:t>2.  einheitliche Vergütungen für Krankenhäuser und Vertragsärzte und </a:t>
            </a:r>
            <a:br>
              <a:rPr sz="1800"/>
            </a:br>
            <a:br>
              <a:rPr sz="1800"/>
            </a:br>
            <a:r>
              <a:rPr b="0" lang="en-US" sz="1800" spc="-1" strike="noStrike">
                <a:solidFill>
                  <a:srgbClr val="000000"/>
                </a:solidFill>
                <a:latin typeface="Arial"/>
                <a:ea typeface="Arial"/>
              </a:rPr>
              <a:t>3.  Maßnahmen zur Sicherung der Qualität und der Wirtschaftlichkeit.</a:t>
            </a:r>
            <a:endParaRPr b="0" lang="en-US" sz="1800" spc="-1" strike="noStrike">
              <a:solidFill>
                <a:srgbClr val="000000"/>
              </a:solidFill>
              <a:latin typeface="Times New Roman"/>
            </a:endParaRPr>
          </a:p>
        </p:txBody>
      </p:sp>
      <p:sp>
        <p:nvSpPr>
          <p:cNvPr id="45" name=""/>
          <p:cNvSpPr/>
          <p:nvPr/>
        </p:nvSpPr>
        <p:spPr>
          <a:xfrm>
            <a:off x="228600" y="3809880"/>
            <a:ext cx="8686800" cy="25628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der Vereinbarung nach Satz 1 Nr. 1 sind bis zum 31. Dezember 2000 die ambulant durchführbaren Operationen und stationsersetzenden Eingriffe gesondert zu benennen, die in der Regel ambulant durchgeführt werden können, und allgemeine Tatbestände zu bestimmen, bei deren Vorliegen eine stationäre Durchführung erforderlich sein kann. In der Vereinbarung sind die Qualitätsvoraussetzungen nach § 135 Abs. 2</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e Vereinbarungen nach § 137 Abs. 1</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und die Richtlinien nach § 136a</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und § 136b Abs. 1</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und 2 zu berücksichtigen, sowie Vergütungsabschläge für Krankenhäuser und Vertragsärzte zu bestimmen, die ihre Verpflichtungen zur Qualitätssicherung nicht einhalten.</a:t>
            </a:r>
            <a:endParaRPr b="0" lang="en-US" sz="1800" spc="-1" strike="noStrike">
              <a:solidFill>
                <a:srgbClr val="000000"/>
              </a:solidFill>
              <a:latin typeface="Times New Roman"/>
            </a:endParaRPr>
          </a:p>
        </p:txBody>
      </p:sp>
      <p:sp>
        <p:nvSpPr>
          <p:cNvPr id="46" name="">
            <a:hlinkClick r:id="rId1"/>
          </p:cNvPr>
          <p:cNvSpPr/>
          <p:nvPr/>
        </p:nvSpPr>
        <p:spPr>
          <a:xfrm>
            <a:off x="7391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2:30:58Z</dcterms:created>
  <dc:creator>h439090</dc:creator>
  <dc:description/>
  <dc:language>en-US</dc:language>
  <cp:lastModifiedBy>h439090</cp:lastModifiedBy>
  <dcterms:modified xsi:type="dcterms:W3CDTF">2006-12-19T13:59:12Z</dcterms:modified>
  <cp:revision>7</cp:revision>
  <dc:subject/>
  <dc:title>PowerPoint-Präsentation</dc:title>
</cp:coreProperties>
</file>