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9949E-55D5-4467-A66F-27F9AA51A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1583B-FD6D-40D4-8910-9E048F632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A5A8-17FC-4D6F-8E14-A3B15FA06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3A0F-B699-4CF2-976C-F4A23630B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28ED-8460-4793-AB90-64A91335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EAEC-B7E1-4118-B890-18E634ED9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1A37-4127-400C-82FF-A6E46C6D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08711-7AD2-4FC5-9504-D640D980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C9F7-673F-4D2A-B5F8-2333029A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AAA5-C50C-4EEA-9952-5D4E8F79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0850-2970-40BF-9214-102196A6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4034-5350-42A9-A693-CEA95FC7B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9C1F-9707-4782-A185-ABFD80DDD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2847960"/>
            <a:ext cx="617220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kurs: Die Leistungspflicht für nicht zugelassene Arzneimitte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43" name=""/>
          <p:cNvSpPr/>
          <p:nvPr/>
        </p:nvSpPr>
        <p:spPr>
          <a:xfrm>
            <a:off x="190440" y="838080"/>
            <a:ext cx="8801280" cy="13107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Die bei der Beklagten versicherte Klägerin wurde wegen einer Krebserkrankung mehrfach operiert und anschließend mit Chemotherapien sowie seit September 1990 ergänzend mit dem Arzneimittel Jomol behandelt. Dieses von dem Arzt Dr. E. entwickelte und hergestellte Medikament, dem eine immunstimulierende und zytostatische Wirkung zugeschrieben wird, ist auf dem deutschen Arzneimittelmarkt nicht zum Verkehr zugelassen.</a:t>
            </a:r>
            <a:endParaRPr b="0" lang="en-US" sz="1600" spc="-1" strike="noStrike">
              <a:solidFill>
                <a:srgbClr val="000000"/>
              </a:solidFill>
              <a:latin typeface="Times New Roman"/>
            </a:endParaRPr>
          </a:p>
        </p:txBody>
      </p:sp>
      <p:sp>
        <p:nvSpPr>
          <p:cNvPr id="44" name=""/>
          <p:cNvSpPr/>
          <p:nvPr/>
        </p:nvSpPr>
        <p:spPr>
          <a:xfrm>
            <a:off x="1176480" y="3049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SGE 82, 233, Auszüge aus Tatbestand und Entscheidungsgründen</a:t>
            </a:r>
            <a:endParaRPr b="0" lang="en-US" sz="1600" spc="-1" strike="noStrike">
              <a:solidFill>
                <a:srgbClr val="000000"/>
              </a:solidFill>
              <a:latin typeface="Times New Roman"/>
            </a:endParaRPr>
          </a:p>
        </p:txBody>
      </p:sp>
      <p:sp>
        <p:nvSpPr>
          <p:cNvPr id="45" name=""/>
          <p:cNvSpPr/>
          <p:nvPr/>
        </p:nvSpPr>
        <p:spPr>
          <a:xfrm>
            <a:off x="203040" y="2362320"/>
            <a:ext cx="8788680" cy="10674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Zutreffend haben die Vorinstanzen eine Einstandspflicht der Beklagten für die Kosten der Jomol-Therapie verneint. Der geltend gemachte Anspruch scheitert bereits daran, dass Jomol nicht über die erforderliche arzneimittelrechtliche Zulassung verfügt und deshalb in der gesetzlichen Krankenversicherung nicht verordnet werden darf. </a:t>
            </a:r>
            <a:endParaRPr b="0" lang="en-US" sz="1600" spc="-1" strike="noStrike">
              <a:solidFill>
                <a:srgbClr val="000000"/>
              </a:solidFill>
              <a:latin typeface="Times New Roman"/>
            </a:endParaRPr>
          </a:p>
        </p:txBody>
      </p:sp>
      <p:sp>
        <p:nvSpPr>
          <p:cNvPr id="46" name=""/>
          <p:cNvSpPr/>
          <p:nvPr/>
        </p:nvSpPr>
        <p:spPr>
          <a:xfrm>
            <a:off x="203040" y="3657600"/>
            <a:ext cx="8763120" cy="25275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sich die Klägerin das Medikament bei einem nicht zur Behandlung von Kassenpatienten zugelassenen Arzt auf eigene Rechnung beschafft hat, kann sie ihren Anspruch nur auf § 13 Abs. 3 SGB V stützen. Danach hat die Krankenkasse, wenn sie eine unaufschiebbare Leistung nicht rechtzeitig erbringen konnte oder eine Leistung zu Unrecht abgelehnt hat, dem Versicherten die für die Beschaffung der Leistung aufgewendeten Kosten zu erstatten. Der Kostenerstattungsanspruch tritt an die Stelle eines an sich gegebenen Sachleistungsanspruchs, den die Kasse infolge eines Versagens des Beschaffungssystems nicht erfüllt hat. Er kann deshalb nur bestehen, soweit die selbstbeschaffte Leistung ihrer Art nach zu den Leistungen gehört, welche die gesetzlichen Krankenkassen als Sach- oder Dienstleistung zu erbringen haben.</a:t>
            </a:r>
            <a:endParaRPr b="0" lang="en-US" sz="16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48" name=""/>
          <p:cNvSpPr/>
          <p:nvPr/>
        </p:nvSpPr>
        <p:spPr>
          <a:xfrm>
            <a:off x="190440" y="914400"/>
            <a:ext cx="8801280" cy="22842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Die Beklagte ist zwar nach § 27 Abs. 1 Satz 2 Nr. 3 iVm. § 31 Abs. 1 SGB V zur Versorgung ihrer Versicherten mit den für die Krankenbehandlung notwendigen Arzneimitteln verpflichtet. Diese Verpflichtung unterliegt aber den Einschränkungen aus § 2 Abs. 1 und § 12 Abs. 1 SGB V; sie umfasst nur solche Leistungen, die für die Behandlung zweckmäßig und wirtschaftlich sind und deren Qualität und Wirksamkeit dem allgemein anerkannten Stand der medizinischen Erkenntnisse entsprechen. An der Zweckmäßigkeit und Wirtschaftlichkeit einer Arzneitherapie fehlt es, wenn das verwendete Medikament nach den Vorschriften des Arzneimittelrechts der Zulassung bedarf und die Zulassung nicht erteilt worden ist. </a:t>
            </a:r>
            <a:endParaRPr b="0" lang="en-US" sz="1600" spc="-1" strike="noStrike">
              <a:solidFill>
                <a:srgbClr val="000000"/>
              </a:solidFill>
              <a:latin typeface="Times New Roman"/>
            </a:endParaRPr>
          </a:p>
        </p:txBody>
      </p:sp>
      <p:sp>
        <p:nvSpPr>
          <p:cNvPr id="49" name=""/>
          <p:cNvSpPr/>
          <p:nvPr/>
        </p:nvSpPr>
        <p:spPr>
          <a:xfrm>
            <a:off x="1190520" y="38088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SGE 82, 233, Auszüge aus Tatbestand und Entscheidungsgründen</a:t>
            </a:r>
            <a:endParaRPr b="0" lang="en-US" sz="1600" spc="-1" strike="noStrike">
              <a:solidFill>
                <a:srgbClr val="000000"/>
              </a:solidFill>
              <a:latin typeface="Times New Roman"/>
            </a:endParaRPr>
          </a:p>
        </p:txBody>
      </p:sp>
      <p:sp>
        <p:nvSpPr>
          <p:cNvPr id="50" name=""/>
          <p:cNvSpPr/>
          <p:nvPr/>
        </p:nvSpPr>
        <p:spPr>
          <a:xfrm>
            <a:off x="203040" y="3200400"/>
            <a:ext cx="8763120" cy="204084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 dem Fehlen der arzneimittelrechtlichen Zulassung diese Wirkung auch dann zukommt, wenn eine Entscheidung der zuständigen Behörde aussteht, sei es weil - wie im vorliegenden Fall - der Hersteller des Medikaments die Zulassung nicht beantragt hat oder weil das Zulassungsverfahren noch nicht abgeschlossen wurde, ist in den bisherigen Urteilen offengeblieben. Entgegen der Ansicht der Revision kann jedoch für diese Konstellation nichts anderes gelten. Das Arzneimittelrecht geht davon aus, dass Qualität, Wirksamkeit und Unbedenklichkeit eines Medikaments regelmäßig vor der Freigabe zur Anwendung am Patienten in einem Zulassungsverfahren nachzuweisen sind.</a:t>
            </a:r>
            <a:endParaRPr b="0" lang="en-US" sz="16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52" name=""/>
          <p:cNvSpPr/>
          <p:nvPr/>
        </p:nvSpPr>
        <p:spPr>
          <a:xfrm>
            <a:off x="190440" y="1044720"/>
            <a:ext cx="8801280" cy="37443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Hinzu kommt ein weiterer Gesichtspunkt, auf den der Senat ebenfalls bereits in dem Urteil vom 8. Juni 1993 (BSGE 72, 252) hingewiesen hat: § 21 Abs. 1 AMG untersagt in der Form eines präventiven Verbots mit Erlaubnisvorbehalt das Inverkehrbringen eines zulassungspflichtigen Arzneimittels so lange, wie keine positive Zulassungsentscheidung vorliegt. Das bedeutet, dass ein solches Präparat durch den pharmazeutischen Unternehmer, den Großhandel, die Apotheken oder den sonstigen Einzelhandel oder durch Ärzte weder entgeltlich noch unentgeltlich an andere abgegeben werden darf ( § 4 Abs. 17 AMG). Werden Fertigarzneimittel ohne Zulassung in den Verkehr gebracht, erfüllt dies den Straftatbestand des § 96 Nr. 5 AMG. Die zuständigen Landesbehörden können - wie im vorliegenden Fall geschehen - nach § 69 Abs. 1 Satz 2 Nr. 1 AMG die Herstellung und das Inverkehrbringen eines nicht zugelassenen Arzneimittels verbieten mit der Folge, dass das Mittel auf dem Arzneimittelmarkt nicht mehr erhältlich ist. Der Arzt, der es trotzdem verordnen und abgeben würde, handelte rechtswidrig. Ein von der Rechtsordnung verbotenes Verhalten kann aber keine Leistungspflicht der Krankenkasse begründen.</a:t>
            </a:r>
            <a:endParaRPr b="0" lang="en-US" sz="1600" spc="-1" strike="noStrike">
              <a:solidFill>
                <a:srgbClr val="000000"/>
              </a:solidFill>
              <a:latin typeface="Times New Roman"/>
            </a:endParaRPr>
          </a:p>
        </p:txBody>
      </p:sp>
      <p:sp>
        <p:nvSpPr>
          <p:cNvPr id="53" name=""/>
          <p:cNvSpPr/>
          <p:nvPr/>
        </p:nvSpPr>
        <p:spPr>
          <a:xfrm>
            <a:off x="1190520" y="45720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SGE 82, 233, Auszüge aus Tatbestand und Entscheidungsgründen</a:t>
            </a:r>
            <a:endParaRPr b="0" lang="en-US" sz="16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55" name=""/>
          <p:cNvSpPr/>
          <p:nvPr/>
        </p:nvSpPr>
        <p:spPr>
          <a:xfrm>
            <a:off x="190440" y="914400"/>
            <a:ext cx="8801280" cy="2781720"/>
          </a:xfrm>
          <a:prstGeom prst="rect">
            <a:avLst/>
          </a:prstGeom>
          <a:solidFill>
            <a:srgbClr val="66ff33"/>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eitsät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1. Die verfassungsrechtliche Konkretisierung der Leistungsansprüche von Versicherten der gesetzlichen Krankenversicherung bei lebensbedrohenden, tödlich verlaufenden Erkrankungen entsprechend der Rechtsprechung des BVerfG (Beschluss vom 6.12.2005 - 1 BvR 347/98 = SozR 4-2500 § 27 Nr 5 = NZS 2006, 84 = NJW 2006, 891 = MedR 2006, 164) gilt sinngemäß auch für die Versorgung mit Arzneimittel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2. Versicherte können in notstandsähnlichen Situationen insoweit unter engen Voraussetzungen die Versorgung mit arzneimittelrechtlich in Deutschland bzw EU-weit nicht zugelassenen Import-Fertigarzneimitteln beanspruchen (Fortentwicklung von BSG vom 19.10.2004 - B 1 KR 27/02 R = BSGE 93, 236 = SozR 4-2500 § 27 Nr 1 - Visudyne).</a:t>
            </a:r>
            <a:endParaRPr b="0" lang="en-US" sz="1600" spc="-1" strike="noStrike">
              <a:solidFill>
                <a:srgbClr val="000000"/>
              </a:solidFill>
              <a:latin typeface="Times New Roman"/>
            </a:endParaRPr>
          </a:p>
        </p:txBody>
      </p:sp>
      <p:sp>
        <p:nvSpPr>
          <p:cNvPr id="56" name=""/>
          <p:cNvSpPr/>
          <p:nvPr/>
        </p:nvSpPr>
        <p:spPr>
          <a:xfrm>
            <a:off x="581040" y="380880"/>
            <a:ext cx="800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er: BSG </a:t>
            </a:r>
            <a:r>
              <a:rPr b="0" lang="en-US" sz="1600" spc="-1" strike="noStrike">
                <a:solidFill>
                  <a:srgbClr val="000000"/>
                </a:solidFill>
                <a:latin typeface="Arial"/>
              </a:rPr>
              <a:t>vom 4.4.2006, B 1 KR 7/05 R</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57" name=""/>
          <p:cNvSpPr/>
          <p:nvPr/>
        </p:nvSpPr>
        <p:spPr>
          <a:xfrm>
            <a:off x="228600" y="4572000"/>
            <a:ext cx="8763120" cy="82404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m BVerfG zum Anspruch von Versicherten auf ärztliche Behandlung mit nicht allgemein anerkannten Methoden im Beschluss vom 6. Dezember 2005 ( </a:t>
            </a:r>
            <a:r>
              <a:rPr b="0" i="1" lang="de-DE" sz="1600" spc="-1" strike="noStrike">
                <a:solidFill>
                  <a:srgbClr val="000000"/>
                </a:solidFill>
                <a:latin typeface="Arial"/>
              </a:rPr>
              <a:t>1 BvR 347/98, aaO)</a:t>
            </a:r>
            <a:r>
              <a:rPr b="0" lang="de-DE" sz="1600" spc="-1" strike="noStrike">
                <a:solidFill>
                  <a:srgbClr val="000000"/>
                </a:solidFill>
                <a:latin typeface="Arial"/>
              </a:rPr>
              <a:t> entwickelten Grundsätze gelten sinngemäß auch im Bereich der Versorgung mit Arzneimitteln. </a:t>
            </a:r>
            <a:endParaRPr b="0" lang="en-US" sz="1600" spc="-1" strike="noStrike">
              <a:solidFill>
                <a:srgbClr val="000000"/>
              </a:solidFill>
              <a:latin typeface="Times New Roman"/>
            </a:endParaRPr>
          </a:p>
        </p:txBody>
      </p:sp>
      <p:sp>
        <p:nvSpPr>
          <p:cNvPr id="58" name=""/>
          <p:cNvSpPr/>
          <p:nvPr/>
        </p:nvSpPr>
        <p:spPr>
          <a:xfrm>
            <a:off x="1557360" y="4038480"/>
            <a:ext cx="601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züge aus den Entscheidungsgründen:</a:t>
            </a:r>
            <a:endParaRPr b="0" lang="en-US" sz="16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60" name=""/>
          <p:cNvSpPr/>
          <p:nvPr/>
        </p:nvSpPr>
        <p:spPr>
          <a:xfrm>
            <a:off x="190440" y="909720"/>
            <a:ext cx="8801280" cy="508824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Der Import von Tomudex® aus Kanada und der Bezug von Tomudex® verstieß nicht gegen das Arzneimittelrech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 Das allgemein geltende, dem Gesundheitsschutz dienende innerstaatliche arzneimittelrechtliche Zulassungserfordernis darf durch eine vermeintlich "großzügige", im Interesse des einzelnen Versicherten erfolgende richterrechtliche Zuerkennung von Ansprüchen auf Versorgung mit einem bestimmten Arzneimittel nicht faktisch systematisch unterlaufen und umgangen werden. Ein solches Vorgehen wäre nämlich sowohl mit einem inakzeptablen unkalkulierbaren Risiko etwaiger Gesundheitsschäden für den betroffenen Versicherten behaftet als auch mit einer nicht gerechtfertigten Ausweitung der Leistungspflicht zu Lasten der übrigen Versicherten verbunden. Solche Auswirkungen dürfen einer Versichertengemeinschaft nicht aufgebürdet werden, die die Behandlung - typischerweise unter Anwendung des Instruments der Versicherungspflicht, also zwangsweise - finanziert ( </a:t>
            </a:r>
            <a:r>
              <a:rPr b="0" i="1" lang="de-DE" sz="1600" spc="-1" strike="noStrike">
                <a:solidFill>
                  <a:srgbClr val="000000"/>
                </a:solidFill>
                <a:latin typeface="Tahoma"/>
              </a:rPr>
              <a:t>vgl schon BSGE 89, 184, 190 = SozR 3-2500 § 31 Nr 8 S 34; zuletzt: Senats-Urteil vom 27. September 2005 - B 1 KR 6/04 R - SozR 4-2500 § 31 Nr 3 RdNr 25 Wobe-Mugos E, auch zur Veröffentlichung in BSGE vorgesehen</a:t>
            </a:r>
            <a:r>
              <a:rPr b="0" lang="de-DE" sz="1600" spc="-1" strike="noStrike">
                <a:solidFill>
                  <a:srgbClr val="000000"/>
                </a:solidFill>
                <a:latin typeface="Tahoma"/>
              </a:rPr>
              <a:t> ). Eine Ausweitung der Asprüche der Versicherten der GKV auf Arzneimittel, die deutschen arzneimittelrechtlichen Zulassungsstandards nicht genügen, muss mithin auf eng umgrenzte Sachverhalte mit notstandsähnlichem Charakter begrenzt bleiben ( </a:t>
            </a:r>
            <a:r>
              <a:rPr b="0" i="1" lang="de-DE" sz="1600" spc="-1" strike="noStrike">
                <a:solidFill>
                  <a:srgbClr val="000000"/>
                </a:solidFill>
                <a:latin typeface="Tahoma"/>
              </a:rPr>
              <a:t>vgl schon BSGE 93, 236 = SozR 4-2500 § 27 Nr 1 - Visudyne®, jeweils RdNr 27</a:t>
            </a:r>
            <a:r>
              <a:rPr b="0" lang="de-DE" sz="1600" spc="-1" strike="noStrike">
                <a:solidFill>
                  <a:srgbClr val="000000"/>
                </a:solidFill>
                <a:latin typeface="Tahoma"/>
              </a:rPr>
              <a:t> ). Die Voraussetzungen für eine derartige notstandsähnliche Situation liegen hier vor (vgl oben 4.a und b). </a:t>
            </a:r>
            <a:endParaRPr b="0" lang="en-US" sz="1600" spc="-1" strike="noStrike">
              <a:solidFill>
                <a:srgbClr val="000000"/>
              </a:solidFill>
              <a:latin typeface="Times New Roman"/>
            </a:endParaRPr>
          </a:p>
        </p:txBody>
      </p:sp>
      <p:sp>
        <p:nvSpPr>
          <p:cNvPr id="61" name=""/>
          <p:cNvSpPr/>
          <p:nvPr/>
        </p:nvSpPr>
        <p:spPr>
          <a:xfrm>
            <a:off x="581040" y="380880"/>
            <a:ext cx="800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SG </a:t>
            </a:r>
            <a:r>
              <a:rPr b="0" lang="en-US" sz="1600" spc="-1" strike="noStrike">
                <a:solidFill>
                  <a:srgbClr val="000000"/>
                </a:solidFill>
                <a:latin typeface="Arial"/>
              </a:rPr>
              <a:t>vom 4.4.2006, B 1 KR 7/05 R</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63" name=""/>
          <p:cNvSpPr/>
          <p:nvPr/>
        </p:nvSpPr>
        <p:spPr>
          <a:xfrm>
            <a:off x="190440" y="914400"/>
            <a:ext cx="8801280" cy="37443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 Arzneimittelrechtlich war für Tomudex® weder die Zulassung förmlich abgelehnt noch gemäß § 30 AMG zurückgenommen, widerrufen oder ruhend gestellt worden. Der Import von Tomudex® widersprach im Falle der Klägerin auch nicht dem Gesetz und erfüllte keinen Straf- oder Ordnungswidrigkeiten-Tatbestand; denn die Einfuhr durch eine Apotheke entsprach den Voraussetzungen für den Einzelimport eines weder in Deutschland noch EU-weit zugelassenen Arzneimittels nach § 73 Abs 3 AMG ( </a:t>
            </a:r>
            <a:r>
              <a:rPr b="0" i="1" lang="de-DE" sz="1600" spc="-1" strike="noStrike">
                <a:solidFill>
                  <a:srgbClr val="000000"/>
                </a:solidFill>
                <a:latin typeface="Tahoma"/>
              </a:rPr>
              <a:t>in den im Zeitpunkt der streitigen Behandlung maßgeblichen Fassungen vom 26. Juli 1999 &lt;BGBl I, S 1666&gt; und vom 21. August 2002 - BGBl I, S 3352</a:t>
            </a:r>
            <a:r>
              <a:rPr b="0" lang="de-DE" sz="1600" spc="-1" strike="noStrike">
                <a:solidFill>
                  <a:srgbClr val="000000"/>
                </a:solidFill>
                <a:latin typeface="Tahoma"/>
              </a:rPr>
              <a:t> ). Diese Regelung erlaubt die Einfuhr von Fertigarzneimitteln in geringen Mengen und auf Bestellung einzelner Personen im Rahmen des üblichen Apothekenbetriebs, wenn sie in dem Staat in den Verkehr gebracht werden dürfen, aus dem sie nach Deutschland verbracht werden, und von Apotheken bestellt worden sind. Arzneimittelrechtlich muss dabei allgemein gewährleistet sein, dass der Verkauf oder die Verabreichung des Arzneimittels nicht gesetz- und verbotswidrig ist ( </a:t>
            </a:r>
            <a:r>
              <a:rPr b="0" i="1" lang="de-DE" sz="1600" spc="-1" strike="noStrike">
                <a:solidFill>
                  <a:srgbClr val="000000"/>
                </a:solidFill>
                <a:latin typeface="Tahoma"/>
              </a:rPr>
              <a:t>stRspr, zB BSGE 93, 1 = SozR 4-2500 § 31 Nr 1, jeweils RdNr 22</a:t>
            </a:r>
            <a:r>
              <a:rPr b="0" lang="de-DE" sz="1600" spc="-1" strike="noStrike">
                <a:solidFill>
                  <a:srgbClr val="000000"/>
                </a:solidFill>
                <a:latin typeface="Tahoma"/>
              </a:rPr>
              <a:t> ). Auch diese Voraussetzung war hier erfüllt. </a:t>
            </a:r>
            <a:endParaRPr b="0" lang="en-US" sz="1600" spc="-1" strike="noStrike">
              <a:solidFill>
                <a:srgbClr val="000000"/>
              </a:solidFill>
              <a:latin typeface="Times New Roman"/>
            </a:endParaRPr>
          </a:p>
        </p:txBody>
      </p:sp>
      <p:sp>
        <p:nvSpPr>
          <p:cNvPr id="64" name=""/>
          <p:cNvSpPr/>
          <p:nvPr/>
        </p:nvSpPr>
        <p:spPr>
          <a:xfrm>
            <a:off x="581040" y="380880"/>
            <a:ext cx="800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SG </a:t>
            </a:r>
            <a:r>
              <a:rPr b="0" lang="en-US" sz="1600" spc="-1" strike="noStrike">
                <a:solidFill>
                  <a:srgbClr val="000000"/>
                </a:solidFill>
                <a:latin typeface="Arial"/>
              </a:rPr>
              <a:t>vom 4.4.2006, B 1 KR 7/05 R</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214880" y="3306600"/>
            <a:ext cx="662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rankheit</a:t>
            </a:r>
            <a:endParaRPr b="0" lang="en-US" sz="1000" spc="-1" strike="noStrike">
              <a:solidFill>
                <a:srgbClr val="000000"/>
              </a:solidFill>
              <a:latin typeface="Times New Roman"/>
            </a:endParaRPr>
          </a:p>
        </p:txBody>
      </p:sp>
      <p:sp>
        <p:nvSpPr>
          <p:cNvPr id="66" name=""/>
          <p:cNvSpPr/>
          <p:nvPr/>
        </p:nvSpPr>
        <p:spPr>
          <a:xfrm>
            <a:off x="190440" y="792000"/>
            <a:ext cx="8801280" cy="59781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3) Abweichend von Absatz 1 Satz 1 dürfen Fertigarzneimittel, die nicht zum Verkehr im Geltungsbereich dieses Gesetzes zugelassen oder registriert oder von der Zulassung oder der Registrierung freigestellt sind, in den Geltungsbereich dieses Gesetzes verbracht werden, wenn sie in dem Staat in Verkehr gebracht werden dürfen, aus dem sie in den Geltungsbereich dieses Gesetzes verbracht werden, und von Apotheken oder im Rahmen des Betriebs einer tierärztlichen Hausapotheke vom Tierarzt für die von ihm behandelten Tiere bestellt sind. Apotheken dürfen solche Arzneimittel, außer in Fällen, in denen sie im Auftrag eines Tierarztes bestellt und an diesen abgegeben werden, </a:t>
            </a:r>
            <a:endParaRPr b="0" lang="en-US" sz="1400" spc="-1" strike="noStrike">
              <a:solidFill>
                <a:srgbClr val="000000"/>
              </a:solidFill>
              <a:latin typeface="Times New Roman"/>
            </a:endParaRPr>
          </a:p>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  </a:t>
            </a:r>
            <a:r>
              <a:rPr b="0" lang="de-DE" sz="1400" spc="-1" strike="noStrike">
                <a:solidFill>
                  <a:srgbClr val="000000"/>
                </a:solidFill>
                <a:latin typeface="MS Shell Dlg"/>
              </a:rPr>
              <a:t>1. nur in geringen Mengen und auf besondere Bestellung einzelner Personen beziehen und nur im Rahmen der </a:t>
            </a:r>
            <a:r>
              <a:rPr b="0" lang="de-DE" sz="1400" spc="-1" strike="noStrike">
                <a:solidFill>
                  <a:srgbClr val="000000"/>
                </a:solidFill>
                <a:latin typeface="MS Shell Dlg"/>
              </a:rPr>
              <a:t>	</a:t>
            </a:r>
            <a:r>
              <a:rPr b="0" lang="de-DE" sz="1400" spc="-1" strike="noStrike">
                <a:solidFill>
                  <a:srgbClr val="000000"/>
                </a:solidFill>
                <a:latin typeface="MS Shell Dlg"/>
              </a:rPr>
              <a:t>bestehenden Apothekenbetriebserlaubnis abgeben und, </a:t>
            </a:r>
            <a:endParaRPr b="0" lang="en-US" sz="1400" spc="-1" strike="noStrike">
              <a:solidFill>
                <a:srgbClr val="000000"/>
              </a:solidFill>
              <a:latin typeface="Times New Roman"/>
            </a:endParaRPr>
          </a:p>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a) soweit es sich nicht um Arzneimittel aus Mitgliedstaaten der Europäischen Union oder anderen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Vertragsstaaten des Abkommens über den Europäischen Wirtschaftsraum handelt, nur auf ärztliche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oder zahnärztliche Verschreibung, wenn hinsichtlich des Wirkstoffes identische und hinsichtlich der </a:t>
            </a:r>
            <a:r>
              <a:rPr b="0" lang="de-DE" sz="1400" spc="-1" strike="noStrike">
                <a:solidFill>
                  <a:srgbClr val="000000"/>
                </a:solidFill>
                <a:latin typeface="MS Shell Dlg"/>
              </a:rPr>
              <a:t>	</a:t>
            </a:r>
            <a:r>
              <a:rPr b="0" lang="de-DE" sz="1400" spc="-1" strike="noStrike">
                <a:solidFill>
                  <a:srgbClr val="000000"/>
                </a:solidFill>
                <a:latin typeface="MS Shell Dlg"/>
              </a:rPr>
              <a:t>Wirkstärke vergleichbare Fertigarzneimittel im Geltungsbereich dieses Gesetzes für das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betreffende Anwendungsgebiet nicht zur Verfügung stehen, </a:t>
            </a:r>
            <a:endParaRPr b="0" lang="en-US" sz="1400" spc="-1" strike="noStrike">
              <a:solidFill>
                <a:srgbClr val="000000"/>
              </a:solidFill>
              <a:latin typeface="Times New Roman"/>
            </a:endParaRPr>
          </a:p>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b) soweit es sich um Arzneimittel aus Mitgliedstaaten der Europäischen Union oder anderen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Vertragsstaaten des Abkommens über den Europäischen Wirtschaftsraum handelt, die zur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Anwendung bei Tieren bestimmt sind, die der Gewinnung von Lebensmitteln dienen, nur auf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tierärztliche Verschreibung </a:t>
            </a:r>
            <a:endParaRPr b="0" lang="en-US" sz="1400" spc="-1" strike="noStrike">
              <a:solidFill>
                <a:srgbClr val="000000"/>
              </a:solidFill>
              <a:latin typeface="Times New Roman"/>
            </a:endParaRPr>
          </a:p>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	</a:t>
            </a:r>
            <a:r>
              <a:rPr b="0" lang="de-DE" sz="1400" spc="-1" strike="noStrike">
                <a:solidFill>
                  <a:srgbClr val="000000"/>
                </a:solidFill>
                <a:latin typeface="MS Shell Dlg"/>
              </a:rPr>
              <a:t>beziehen, oder </a:t>
            </a:r>
            <a:endParaRPr b="0" lang="en-US" sz="1400" spc="-1" strike="noStrike">
              <a:solidFill>
                <a:srgbClr val="000000"/>
              </a:solidFill>
              <a:latin typeface="Times New Roman"/>
            </a:endParaRPr>
          </a:p>
          <a:p>
            <a:pPr>
              <a:lnSpc>
                <a:spcPct val="100000"/>
              </a:lnSpc>
              <a:spcBef>
                <a:spcPts val="876"/>
              </a:spcBef>
              <a:tabLst>
                <a:tab algn="l" pos="0"/>
                <a:tab algn="l" pos="2826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2. soweit sie nach den apothekenrechtlichen Vorschriften oder berufsgenossenschaftlichen Vorgaben für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Notfälle vorrätig gehalten werden oder kurzfristig beschaffbar sein müssen, nur beziehen und im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Rahmen des üblichen Apothekenbetriebs abgeben, wenn im Geltungsbereich dieses Gesetzes Arzneimittel für </a:t>
            </a:r>
            <a:r>
              <a:rPr b="0" lang="de-DE" sz="1400" spc="-1" strike="noStrike">
                <a:solidFill>
                  <a:srgbClr val="000000"/>
                </a:solidFill>
                <a:latin typeface="MS Shell Dlg"/>
              </a:rPr>
              <a:t>	</a:t>
            </a:r>
            <a:r>
              <a:rPr b="0" lang="de-DE" sz="1400" spc="-1" strike="noStrike">
                <a:solidFill>
                  <a:srgbClr val="000000"/>
                </a:solidFill>
                <a:latin typeface="MS Shell Dlg"/>
              </a:rPr>
              <a:t>	</a:t>
            </a:r>
            <a:r>
              <a:rPr b="0" lang="de-DE" sz="1400" spc="-1" strike="noStrike">
                <a:solidFill>
                  <a:srgbClr val="000000"/>
                </a:solidFill>
                <a:latin typeface="MS Shell Dlg"/>
              </a:rPr>
              <a:t>das betreffende Anwendungsgebiet nicht zur Verfügung stehen; </a:t>
            </a:r>
            <a:endParaRPr b="0" lang="en-US" sz="1400" spc="-1" strike="noStrike">
              <a:solidFill>
                <a:srgbClr val="000000"/>
              </a:solidFill>
              <a:latin typeface="Times New Roman"/>
            </a:endParaRPr>
          </a:p>
        </p:txBody>
      </p:sp>
      <p:sp>
        <p:nvSpPr>
          <p:cNvPr id="67" name=""/>
          <p:cNvSpPr/>
          <p:nvPr/>
        </p:nvSpPr>
        <p:spPr>
          <a:xfrm>
            <a:off x="581040" y="15228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000" spc="-1" strike="noStrike">
                <a:solidFill>
                  <a:srgbClr val="000000"/>
                </a:solidFill>
                <a:latin typeface="Tahoma"/>
              </a:rPr>
              <a:t>73 AMG</a:t>
            </a:r>
            <a:endParaRPr b="0" lang="en-US" sz="2000" spc="-1" strike="noStrike">
              <a:solidFill>
                <a:srgbClr val="000000"/>
              </a:solidFill>
              <a:latin typeface="Times New Roman"/>
            </a:endParaRPr>
          </a:p>
        </p:txBody>
      </p:sp>
      <p:sp>
        <p:nvSpPr>
          <p:cNvPr id="68" name="">
            <a:hlinkClick r:id="rId1"/>
          </p:cNvPr>
          <p:cNvSpPr/>
          <p:nvPr/>
        </p:nvSpPr>
        <p:spPr>
          <a:xfrm>
            <a:off x="69343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0:52:42Z</dcterms:created>
  <dc:creator>h439090</dc:creator>
  <dc:description/>
  <dc:language>en-US</dc:language>
  <cp:lastModifiedBy>h439090</cp:lastModifiedBy>
  <dcterms:modified xsi:type="dcterms:W3CDTF">2008-04-07T12:17:30Z</dcterms:modified>
  <cp:revision>5</cp:revision>
  <dc:subject/>
  <dc:title>PowerPoint-Präsentation</dc:title>
</cp:coreProperties>
</file>