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C254-B808-4B9E-82CB-EC785F594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A900-90BD-45F9-87E6-2C48D56C7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9C5E-8FEE-416F-9A76-FCF8F22B3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1FB1-EB28-4F46-9D52-098F71BA1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D838-6F26-4EE4-8DAA-1777DE1EC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679E-257C-41F0-8370-44B27BCA9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E131-3662-4C8F-977E-8B315B96D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7434-201E-4E5B-B2C1-F8EC33A51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F1CD-BD25-4EC3-9941-09A1BA505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3131-4B37-4AD5-A1FE-58230D526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46B9-B2C2-49AA-B022-D380608D2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414C-8E0D-4659-8880-BC1C1ED4D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AF00A-31C5-46F5-88CB-8C75FCCF2D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Das%20GKV-Leistungsrecht.ppt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76520" y="2895480"/>
            <a:ext cx="6019560" cy="7034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rgotherapi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5840" y="228600"/>
            <a:ext cx="5915520" cy="581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,Bold"/>
              </a:rPr>
              <a:t>Maßnahmen der Ergotherap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5360" y="961920"/>
            <a:ext cx="4088160" cy="398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torisch-funktionelle Behandl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1447920"/>
            <a:ext cx="8686800" cy="53762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Eine motorisch-funktionelle Behandlung dient der gezielten Therapie krankheitsbedingter Störungen der motorischen Funktionen mit und ohne Beteiligung des peripheren Nervensystems und der daraus resultierenden Fähigkeitsstörunge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Sie umfasst insbesondere Maßnahmen zum/zu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- Abbau pathologischer Haltungs- und Bewegungsmuster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- Aufbau und Erhalt physiologischer Funktionen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- Entwicklung oder Verbesserung der Grob- und Feinmotorik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- Entwicklung oder Verbesserung der Koordination von Bewegungsabläufen und der </a:t>
            </a: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  funktionellen  Ausdauer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- Verbesserung von Gelenkfunktionen, einschl. Gelenkschutz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- Vermeidung der Entstehung von Kontrakturen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- Narbenabhärtung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- Desensibilisierung bzw. Sensibilisierung einzelner Sinnesfunktionen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- Schmerzlinderung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- Erlernen von Ersatzfunktionen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- Verbesserung der eigenständigen Lebensführung, auch unter Einbeziehung technischer Hilfe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Die Behandlung kann als Einzel- oder Gruppenbehandlung verordnet werde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2840" y="304920"/>
            <a:ext cx="4699440" cy="398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ensomotorisch-perzeptive Behandl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914400"/>
            <a:ext cx="8610480" cy="56912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Eine sensomotorisch-perzeptive Behandlung dient der gezielten Therapie krankheitsbedingter Störungen der sensomotorischen und perzeptiven Funktionen mit den daraus resultierenden Fähigkeitsstörungen. Sie umfasst insbesondere Maßnahm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zum/zu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- Desensibilisierung und Sensibilisierung einzelner Sinnesfunktionen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- Koordination, Umsetzung und Integration von Sinneswahrnehmungen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- Verbesserung der Körperwahrnehmung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- Hemmung und Abbau pathologischer Haltungs- und Bewegungsmuster und Bahnung </a:t>
            </a: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   normaler Bewegungen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- Stabilisierung sensomotorischer und perzeptiver Funktionen mit Verbesserung der </a:t>
            </a: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  Gleichgewichtsfunktion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- Kompensation eingeschränkter praktischer Möglichkeiten durch Verbesserung der kognitiven </a:t>
            </a: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   Funktionen, Erlernen von Ersatzfunktionen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- Entwicklung und Verbesserung im situationsgerechten Verhalten und der zwischen-</a:t>
            </a: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  menschlichen Beziehungen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- Erlangen der Grundarbeitsfähigkeiten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- Verbesserung der Mund- und Essmotorik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- Verbesserung der eigenständigen Lebensführung, auch unter Einbeziehung technischer </a:t>
            </a: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  Hilfe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Die Behandlung kann als Einzel- oder Gruppenbehandlung verordnet werde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70360" y="304920"/>
            <a:ext cx="7587360" cy="398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rnleistungstraining / neuropsychologisch orientierte Behandl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914400"/>
            <a:ext cx="8686800" cy="28832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in Hirnleistungstraining / eine neuropsychologisch orientierte Behandlung dient der gezielten Therapie krankheitsbedingter Störungen der neuropsychologischen Hirnfunktionen, insbesondere der kognitiven Störungen und der daraus resultierenden Fähigkeitsstörungen. Sie umfasst insbesondere Maßnahmen zum/zu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- Verbesserung und Erhalt kognitiver Funktionen wie Konzentration, Merkfähigkeit,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Aufmerksamkeit, Orientierung, Gedächtnis sowie Handlungsplanung und Problemlösung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- Erlangen der Grundarbeitsfähigkeiten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- Verbesserung der eigenständigen Lebensführung, auch unter Einbeziehung technischer Hilfe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ie neuropsychologisch orientierte Behandlung wird ausschließlich als Einzeltherapie verordnet. Das Hirnleistungstraining kann als Einzel- oder Gruppenbehandlung verordnet werde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34800" y="428760"/>
            <a:ext cx="4132440" cy="398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sychisch-funktionelle Behandl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990720"/>
            <a:ext cx="8534160" cy="45050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Eine psychisch-funktionelle Behandlung dient der gezielten Therapie krankheitsbedingter Störungen der psychosozialen und sozioemotionalen Funktionen und den daraus resultierenden Fähigkeitsstörungen. Sie umfasst insbesondere Maßnahmen zum/zu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- Verbesserung und Stabilisierung der psychischen Grundleistungsfunktionen wie Antrieb, </a:t>
            </a: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  Motivation, Belastbarkeit, Ausdauer, Flexibilität und Selbständigkeit in der </a:t>
            </a: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  Tagesstrukturierung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- Verbesserung eingeschränkter körperlicher Funktionen wie Grob- und Feinmotorik, </a:t>
            </a: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   Koordination und Körperwahrnehmung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- Verbesserung der Körperwahrnehmung und Wahrnehmungsverarbeitung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- Verbesserung der Realitätsbezogenheit, der Selbst- und Fremdwahrnehmung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- Verbesserung des situationsgerechten Verhaltens, auch der sozioemotionalen Kompetenz </a:t>
            </a: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  und Interaktionsfähigkeit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- Verbesserung der kognitiven Funktionen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- Verbesserung der psychischen Stabilisierung und des Selbstvertrauens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- Verbesserung der eigenständigen Lebensführung und der Grundarbeitsfähigkeite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Die psychisch-funktionelle Behandlung kann als Einzel- oder Gruppenbehandlung verordnet werde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1"/>
          </p:cNvPr>
          <p:cNvSpPr/>
          <p:nvPr/>
        </p:nvSpPr>
        <p:spPr>
          <a:xfrm>
            <a:off x="7391520" y="60199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7T17:23:54Z</dcterms:created>
  <dc:creator>h439090</dc:creator>
  <dc:description/>
  <dc:language>en-US</dc:language>
  <cp:lastModifiedBy>h439090</cp:lastModifiedBy>
  <dcterms:modified xsi:type="dcterms:W3CDTF">2008-04-07T12:57:58Z</dcterms:modified>
  <cp:revision>7</cp:revision>
  <dc:subject/>
  <dc:title>PowerPoint-Präsentation</dc:title>
</cp:coreProperties>
</file>